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E85-C8FA-4513-801D-E7C68B99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DFAB-9D8E-4CB7-B615-A0AB437A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DF3C-9F7E-4F6C-8B39-33C7EEB1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0BE7-84FC-4AA4-BE51-71614D1F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90AC-D663-4C5E-B322-D64D8F0C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0455-18DA-4068-ADAC-C02C46A6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BE5E-B961-4D75-A774-7ED05575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CCF5-B626-45B5-B93E-2924B6D6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1587-34E6-4639-ACD6-6FDB55D4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325C-D425-41EE-9583-4CDB6452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9275-1FB0-4AB8-892F-65EC677C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11F-0581-4CD0-81C1-B37BC7C9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DF81-4F14-4DAB-B735-249E9D34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0466-1E34-4ABE-A34B-8F2BFB87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AE7A-9721-4366-B7DD-6F807EED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B0B9-AD0C-4D62-8B71-368EDE1F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AB82-A728-48F1-8B8D-43E2E0FB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1C8-2EB5-46E2-AF66-3EB63DE0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4BED-3380-4D9D-BFB2-FF279B00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48E-9984-4B08-B4EB-E27F9AAD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BED2-4EEA-4601-B859-CDED7DDB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AE54-10D9-420A-83A5-9F0C29F0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78F-6345-4236-9FF6-E6E3DB3E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6B61-EFA1-4976-81C1-AF4FADC1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756480" y="62352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867040" y="6248520"/>
            <a:ext cx="3192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4FC7-8203-4C63-8E87-AB8CF3EE3ADA}" type="slidenum">
              <a:rPr b="1" lang="el-G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23A6-7BB3-4AFF-8C68-7BB2DA4A8821}" type="slidenum">
              <a:rPr b="1" lang="el-G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tapde.gr/epixeirhsiaka_programmata/kainotomes_energeies.htm" TargetMode="External"/><Relationship Id="rId2" Type="http://schemas.openxmlformats.org/officeDocument/2006/relationships/hyperlink" Target="http://www.ptapde.gr/epixeirhsiaka_programmata/kainotomes_energeies.htm" TargetMode="External"/><Relationship Id="rId3" Type="http://schemas.openxmlformats.org/officeDocument/2006/relationships/hyperlink" Target="http://www.ptapde.gr/epixeirhsiaka_programmata/kainotomes_energeies.htm" TargetMode="External"/><Relationship Id="rId4" Type="http://schemas.openxmlformats.org/officeDocument/2006/relationships/hyperlink" Target="mailto:smichos@ptapde.gr" TargetMode="External"/><Relationship Id="rId5" Type="http://schemas.openxmlformats.org/officeDocument/2006/relationships/hyperlink" Target="mailto:ctzomakas@ptapde.gr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7840" y="189000"/>
            <a:ext cx="89661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l-GR" sz="2800" spc="-1" strike="noStrike">
                <a:solidFill>
                  <a:srgbClr val="003366"/>
                </a:solidFill>
                <a:latin typeface="Arial"/>
              </a:rPr>
              <a:t>ΚΑΙΝΟΤΟΜΕΣ ΕΝΕΡΓΕΙΕΣ ΤΟΥ ΕΤΠΑ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l-GR" sz="2800" spc="-1" strike="noStrike">
                <a:solidFill>
                  <a:srgbClr val="003366"/>
                </a:solidFill>
                <a:latin typeface="Arial"/>
              </a:rPr>
              <a:t>2000-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1" lang="el-GR" sz="2800" spc="-1" strike="noStrike">
                <a:solidFill>
                  <a:srgbClr val="003366"/>
                </a:solidFill>
                <a:latin typeface="Arial"/>
              </a:rPr>
              <a:t>06</a:t>
            </a:r>
            <a:br>
              <a:rPr sz="1600"/>
            </a:br>
            <a:br>
              <a:rPr sz="1600"/>
            </a:br>
            <a:r>
              <a:rPr b="1" lang="el-GR" sz="3200" spc="-1" strike="noStrike">
                <a:solidFill>
                  <a:srgbClr val="003366"/>
                </a:solidFill>
                <a:latin typeface="Monotype Corsiva"/>
              </a:rPr>
              <a:t>Συνάντηση Καινοτομίας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33280" y="3499920"/>
            <a:ext cx="79959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6666"/>
                </a:solidFill>
                <a:latin typeface="Arial"/>
              </a:rPr>
              <a:t>Περιφερειακό Ταμείο Ανάπτυξης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6666"/>
                </a:solidFill>
                <a:latin typeface="Arial"/>
              </a:rPr>
              <a:t>Περιφέρειας Δυτικής Ελλάδας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66"/>
                </a:solidFill>
                <a:latin typeface="Arial"/>
              </a:rPr>
              <a:t>Δρ. Στέφανος Μίχος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0240" y="725040"/>
            <a:ext cx="7967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Comic Sans MS"/>
              </a:rPr>
              <a:t>Χαρακτηριστικά των έργων</a:t>
            </a:r>
            <a:r>
              <a:rPr b="1" lang="el-GR" sz="32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lang="el-GR" sz="3200" spc="-1" strike="noStrike">
                <a:solidFill>
                  <a:srgbClr val="006666"/>
                </a:solidFill>
                <a:latin typeface="Comic Sans MS"/>
              </a:rPr>
              <a:t>που θα συμπεριλάβει (</a:t>
            </a: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2</a:t>
            </a:r>
            <a:r>
              <a:rPr b="0" lang="el-GR" sz="3200" spc="-1" strike="noStrike">
                <a:solidFill>
                  <a:srgbClr val="006666"/>
                </a:solidFill>
                <a:latin typeface="Comic Sans MS"/>
              </a:rPr>
              <a:t>/3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23480" y="2604960"/>
            <a:ext cx="7783560" cy="34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να έχουν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πιλοτικό χαρακτήρα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ή να αποτελούν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επέκταση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ή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ολοκλήρωση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υπαρχόντων έργων και με κάποιο τρόπο να «δένουν», αλλά όχι να επικαλύπτονται, με αντίστοιχα έργα που υλοποιούνται ή θα υλοποιηθούν στο άμεσο μέλλον στα πλαίσια διαφόρων Προγραμμάτων της ΠΔ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να περιγράφουν τις διάφορες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φάσει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τους και τις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επιμέρους εργασίε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σε κάθε φάση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να έχουν χρονικό ορίζοντα υλοποίησης από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12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έως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24 μήνε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Αίθουσα Συνεδριάσεων ΠΔΕ, Πάτρ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A68-E2F1-46F6-94D2-D88A904B5E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4/2004</a:t>
            </a: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0240" y="725040"/>
            <a:ext cx="7967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Comic Sans MS"/>
              </a:rPr>
              <a:t>Χαρακτηριστικά των έργων</a:t>
            </a:r>
            <a:r>
              <a:rPr b="1" lang="el-GR" sz="32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lang="el-GR" sz="3200" spc="-1" strike="noStrike">
                <a:solidFill>
                  <a:srgbClr val="006666"/>
                </a:solidFill>
                <a:latin typeface="Comic Sans MS"/>
              </a:rPr>
              <a:t>που θα συμπεριλάβει (</a:t>
            </a: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3</a:t>
            </a:r>
            <a:r>
              <a:rPr b="0" lang="el-GR" sz="3200" spc="-1" strike="noStrike">
                <a:solidFill>
                  <a:srgbClr val="006666"/>
                </a:solidFill>
                <a:latin typeface="Comic Sans MS"/>
              </a:rPr>
              <a:t>/3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26800" y="2604600"/>
            <a:ext cx="735804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να κυμαίνονται από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200.000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έως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400.000 €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συμμ. ΕΤΠΑ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να περιλαμβάνουν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ρητές δεσμεύσει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από τους συμμετέχοντες για τη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συνεργασία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tter of commitment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), και όπου απαιτείται την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κάλυψη της ιδιωτικής συμμετοχή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tter of intent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Αίθουσα Συνεδριάσεων ΠΔΕ, Πάτρ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3DAB-64E7-44F5-A769-1DAD69ACF44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4/2004</a:t>
            </a: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44640" y="816120"/>
            <a:ext cx="798192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Comic Sans MS"/>
              </a:rPr>
              <a:t>Υποβολή προτάσεω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41480" y="2644560"/>
            <a:ext cx="751032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Αίτηση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Περιγραφή έργου (ελληνικά &amp; αγγλικά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Επιστολή αποδοχής συνεργασίας (ελληνικά &amp; αγγλικ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Επιστολή πρόθεσης κάλυψης ιδιωτικής συμμετοχής (ελληνικά &amp; αγγλικ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Άλλο τεκμηριωτικό υλικό (π.χ.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files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συνεργαζόμενων Φορέων, δημοσιεύσεις, τεχνικές μελέτες, αντίγραφα των απαιτούμενων εγκρίσεων – αδειοδοτήσεων, κ.α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Αίθουσα Συνεδριάσεων ΠΔΕ, Πάτρ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06E-1A75-41E1-A813-057C7010819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4/2004</a:t>
            </a: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44640" y="816120"/>
            <a:ext cx="798192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Comic Sans MS"/>
              </a:rPr>
              <a:t>Αξιολόγηση και επιλογή των έργω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77400" y="2454120"/>
            <a:ext cx="7885080" cy="38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Οι προτάσεις θα αξιολογηθούν από κατάλληλες Επιτροπές Αξιολόγηση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Επιλογή σε δύο (2) στάδια: 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προεπιλογή</a:t>
            </a: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 και 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τελική επιλογή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Προεπιλογή</a:t>
            </a: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: (α) Κριτήρια Επιλογής Προτάσεων και (β) Φύλλα Αξιολόγησης Προτάσεω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Πότε</a:t>
            </a: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: πριν την υποβολή του Προγράμματος Καινοτομίας στην Ε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Έγκριση</a:t>
            </a: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: Περιφέρεια Δυτικής Ελλάδα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Τελική επιλογή</a:t>
            </a: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: (α) Τεχνικό Δελτίο Ελέγχου των έργων και (β) Φύλλο Αξιολόγησης Τεχνικού Δελτίου Ελέγχου των έργω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Πότε</a:t>
            </a: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: μετά την έγκριση του Προγράμματος Καινοτομίας στην Ε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Έγκριση</a:t>
            </a: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: Επιτροπή Παρακολούθησης του Προγράμματο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Η συμπλήρωση των εντύπων θα γίνεται ηλεκτρονικά και θα υποβάλλεται σε έντυπη και ηλεκτρονική μορφή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Αίθουσα Συνεδριάσεων ΠΔΕ, Πάτρ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6651-BC9C-4F4A-9809-AB4255168B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4/2004</a:t>
            </a: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44640" y="816120"/>
            <a:ext cx="798192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Comic Sans MS"/>
              </a:rPr>
              <a:t>Χρονοδιάγραμμα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1120" y="2504880"/>
            <a:ext cx="7832520" cy="38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Υποβολή προτάσεων: μέχρι 11/5/200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Αξιολόγηση: μέχρι 17/5/200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Προεπιλογή: μέχρι 18/5/200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Σύνταξη νέου Προγράμματος: μέχρι 19/5/200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Ταξίδι προώθησης νέου Προγράμματος: μέχρι 21/5/200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Υποβολή νέου Προγράμματος στην ΕΕ: μέχρι 28/5/200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Αίθουσα Συνεδριάσεων ΠΔΕ, Πάτρ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2214-419B-4F21-9AAE-AB38A545627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4/2004</a:t>
            </a: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lang="el-GR" sz="3200" spc="-1" strike="noStrike">
                <a:solidFill>
                  <a:srgbClr val="006666"/>
                </a:solidFill>
                <a:latin typeface="Comic Sans MS"/>
              </a:rPr>
              <a:t>Πρόσθετα</a:t>
            </a:r>
            <a:r>
              <a:rPr b="1" lang="el-GR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lang="el-GR" sz="3200" spc="-1" strike="noStrike">
                <a:solidFill>
                  <a:srgbClr val="006666"/>
                </a:solidFill>
                <a:latin typeface="Comic Sans MS"/>
              </a:rPr>
              <a:t>στοιχεία - Πληροφορίε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646360"/>
            <a:ext cx="7243920" cy="27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Προτάσεις για το όνομα (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go)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του νέου Προγράμματο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457880"/>
            <a:ext cx="6419880" cy="30456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</a:rPr>
              <a:t>Πληροφορίες σχετικά με τον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</a:rPr>
              <a:t>άτυπο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</a:rPr>
              <a:t> διαγωνισμό καινοτομίας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5067360"/>
            <a:ext cx="77724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see </a:t>
            </a:r>
            <a:r>
              <a:rPr b="0" lang="en-GB" sz="1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ptapde.gr/epixeirhsiaka_programmata/kainotomes_energeies</a:t>
            </a:r>
            <a:r>
              <a:rPr b="0" lang="el-GR" sz="1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3366"/>
                </a:solidFill>
                <a:latin typeface="Arial"/>
              </a:rPr>
              <a:t>Ε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-mail</a:t>
            </a:r>
            <a:r>
              <a:rPr b="0" lang="el-GR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1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smichos@ptapde.gr</a:t>
            </a:r>
            <a:r>
              <a:rPr b="0" lang="el-GR" sz="1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ctzomakas@ptapde.g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Αίθουσα Συνεδριάσεων ΠΔΕ, Πάτρ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F8DB-BD85-4839-917D-6C86CA0110B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4/2004</a:t>
            </a: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533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6666"/>
                </a:solidFill>
                <a:latin typeface="Comic Sans MS"/>
              </a:rPr>
              <a:t>  </a:t>
            </a:r>
            <a:r>
              <a:rPr b="0" lang="el-GR" sz="3200" spc="-1" strike="noStrike">
                <a:solidFill>
                  <a:srgbClr val="006666"/>
                </a:solidFill>
                <a:latin typeface="Comic Sans MS"/>
              </a:rPr>
              <a:t>Περιεχόμενα παρουσίαση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1480" y="2504880"/>
            <a:ext cx="7510320" cy="38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Στόχοι του νέου Προγράμματο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Εκπλήρωση στόχω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Προτεινόμενη δομή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Χαρακτηριστικά των έργων που θα συμπεριλάβε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Υποβολή προτάσεω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Αξιολόγηση και επιλογή των έργων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Χρονοδιάγραμμα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Πρόσθετα στοιχεία - Πληροφορίε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Αίθουσα Συνεδριάσεων ΠΔΕ, Πάτρ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C0DB-414F-4117-844E-C66BDA015B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4/2004</a:t>
            </a: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54720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lang="el-GR" sz="3200" spc="-1" strike="noStrike">
                <a:solidFill>
                  <a:srgbClr val="006666"/>
                </a:solidFill>
                <a:latin typeface="Comic Sans MS"/>
              </a:rPr>
              <a:t>Στόχοι του νέου Προγράμματο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3480" y="2414160"/>
            <a:ext cx="778356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Να επιβεβαιώσει την αταλάντευτη θέση της ΠΔΕ για Περιφερειακή Ανάπτυξη με Καινοτομικά Χαρακτηριστικά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Να εδραιώσει την ΠΔΕ στην ΕΕ ως μια Σύγχρονη και Καινοτόμα Περιφέρεια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Να συνεχίσει με ομαλό τρόπο την προσπάθεια που ξεκίνησε πριν 2 χρόνια στην ΠΔΕ με την υλοποίηση του Προγράμματος Καινοτομίας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N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Να αποδείξει τη συνέργια στην ΠΔΕ μεταξύ των διαφόρων Προγραμμάτων που υλοποιούνται αυτή τη στιγμή (π.χ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, ΠΕΠ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ΕΠΚτΠ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N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T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REG IIIC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SE,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κ.α.)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Αίθουσα Συνεδριάσεων ΠΔΕ, Πάτρ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43F-A3AE-4E0B-BBB7-84EFDD4062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4/2004</a:t>
            </a: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54720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lang="el-GR" sz="3200" spc="-1" strike="noStrike">
                <a:solidFill>
                  <a:srgbClr val="006666"/>
                </a:solidFill>
                <a:latin typeface="Comic Sans MS"/>
              </a:rPr>
              <a:t>Εκπλήρωση στόχω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23480" y="2528640"/>
            <a:ext cx="7783560" cy="34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Να καθοριστούν συγκεκριμένοι άξονες ενδιαφέροντο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Να τονιστούν τα συγκριτικά πλεονεκτήματα της ΠΔΕ ως προς το βιοτικό επίπεδο, την απασχόληση, τις επενδύσεις, την εμπορική δραστηριότητα, τον τουρισμό, κ.α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Να ενσωματωθούν Δράσεις και Έργα που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συμπλέουν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”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με τους καθορισμένους άξονες ενδιαφέροντο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Να μπορεί να εφαρμοστεί το γρηγορότερο δυνατό μετά την έγκρισή του από την ΕΕ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Αίθουσα Συνεδριάσεων ΠΔΕ, Πάτρ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268-53F9-4169-A232-D9AE4174D3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4/2004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1089000"/>
            <a:ext cx="792468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Comic Sans MS"/>
              </a:rPr>
              <a:t>Προτεινόμενη δομή (1/4)</a:t>
            </a:r>
            <a:br>
              <a:rPr sz="3200"/>
            </a:br>
            <a:br>
              <a:rPr sz="2400"/>
            </a:br>
            <a:br>
              <a:rPr sz="2400"/>
            </a:br>
            <a:r>
              <a:rPr b="1" i="1" lang="el-GR" sz="2400" spc="-1" strike="noStrike">
                <a:solidFill>
                  <a:srgbClr val="006666"/>
                </a:solidFill>
                <a:latin typeface="Comic Sans MS"/>
              </a:rPr>
              <a:t>Η ΠΔΕ να κινηθεί στο τρίπτυχο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l-GR" sz="2400" spc="-1" strike="noStrike">
                <a:solidFill>
                  <a:srgbClr val="006666"/>
                </a:solidFill>
                <a:latin typeface="Comic Sans MS"/>
              </a:rPr>
              <a:t>              Περιφέρεια της Ευρώπης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802240" y="3165480"/>
            <a:ext cx="4119480" cy="2004480"/>
            <a:chOff x="2802240" y="3165480"/>
            <a:chExt cx="4119480" cy="2004480"/>
          </a:xfrm>
        </p:grpSpPr>
        <p:sp>
          <p:nvSpPr>
            <p:cNvPr id="105" name="_s49214"/>
            <p:cNvSpPr/>
            <p:nvPr/>
          </p:nvSpPr>
          <p:spPr>
            <a:xfrm>
              <a:off x="4291200" y="3521160"/>
              <a:ext cx="1116000" cy="101880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468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" name="_s49161"/>
            <p:cNvSpPr/>
            <p:nvPr/>
          </p:nvSpPr>
          <p:spPr>
            <a:xfrm>
              <a:off x="4305600" y="3165480"/>
              <a:ext cx="11160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6666"/>
                  </a:solidFill>
                  <a:latin typeface="Times New Roman"/>
                </a:rPr>
                <a:t>ΚΑΘΑΡΗ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" name="_s49215"/>
            <p:cNvSpPr/>
            <p:nvPr/>
          </p:nvSpPr>
          <p:spPr>
            <a:xfrm>
              <a:off x="4672080" y="4103640"/>
              <a:ext cx="1114560" cy="1017360"/>
            </a:xfrm>
            <a:prstGeom prst="ellipse">
              <a:avLst/>
            </a:prstGeom>
            <a:solidFill>
              <a:srgbClr val="003366">
                <a:alpha val="50000"/>
              </a:srgbClr>
            </a:solidFill>
            <a:ln w="46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" name="_s49162"/>
            <p:cNvSpPr/>
            <p:nvPr/>
          </p:nvSpPr>
          <p:spPr>
            <a:xfrm>
              <a:off x="5807160" y="4916520"/>
              <a:ext cx="111456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6666"/>
                  </a:solidFill>
                  <a:latin typeface="Times New Roman"/>
                </a:rPr>
                <a:t>ΕΛΚΥΣΤΙΚΗ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" name="_s49216"/>
            <p:cNvSpPr/>
            <p:nvPr/>
          </p:nvSpPr>
          <p:spPr>
            <a:xfrm>
              <a:off x="3938760" y="4102200"/>
              <a:ext cx="1114560" cy="1017000"/>
            </a:xfrm>
            <a:prstGeom prst="ellipse">
              <a:avLst/>
            </a:prstGeom>
            <a:solidFill>
              <a:srgbClr val="cc99ff">
                <a:alpha val="50000"/>
              </a:srgbClr>
            </a:solidFill>
            <a:ln w="46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0" name="_s49165"/>
            <p:cNvSpPr/>
            <p:nvPr/>
          </p:nvSpPr>
          <p:spPr>
            <a:xfrm>
              <a:off x="2802240" y="4914720"/>
              <a:ext cx="1114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6666"/>
                  </a:solidFill>
                  <a:latin typeface="Times New Roman"/>
                </a:rPr>
                <a:t>ΑΝΤΑΓΩΝΙΣΤΙΚΗ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Αίθουσα Συνεδριάσεων ΠΔΕ, Πάτρ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9A0F-8468-48A9-B090-0D7421D4C0E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4/2004</a:t>
            </a: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659880"/>
            <a:ext cx="7924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lang="el-GR" sz="3200" spc="-1" strike="noStrike">
                <a:solidFill>
                  <a:srgbClr val="006666"/>
                </a:solidFill>
                <a:latin typeface="Comic Sans MS"/>
              </a:rPr>
              <a:t>Προτεινόμενη δομή (2/4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400" spc="-1" strike="noStrike">
                <a:solidFill>
                  <a:srgbClr val="006666"/>
                </a:solidFill>
                <a:latin typeface="Comic Sans MS"/>
              </a:rPr>
              <a:t>Καθαρή Περιφέρεια (ενδεικτικές δράσεις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958120" y="3263040"/>
            <a:ext cx="3585600" cy="2837880"/>
            <a:chOff x="2958120" y="3263040"/>
            <a:chExt cx="3585600" cy="2837880"/>
          </a:xfrm>
        </p:grpSpPr>
        <p:sp>
          <p:nvSpPr>
            <p:cNvPr id="113" name="_s56351"/>
            <p:cNvSpPr/>
            <p:nvPr/>
          </p:nvSpPr>
          <p:spPr>
            <a:xfrm flipV="1">
              <a:off x="2958120" y="5745960"/>
              <a:ext cx="3585600" cy="354960"/>
            </a:xfrm>
            <a:custGeom>
              <a:avLst/>
              <a:gdLst>
                <a:gd name="textAreaLeft" fmla="*/ 414720 w 3585600"/>
                <a:gd name="textAreaRight" fmla="*/ 3170880 w 3585600"/>
                <a:gd name="textAreaTop" fmla="*/ 41040 h 354960"/>
                <a:gd name="textAreaBottom" fmla="*/ 313920 h 35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250" y="21600"/>
                  </a:lnTo>
                  <a:lnTo>
                    <a:pt x="135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3366"/>
                  </a:solidFill>
                  <a:latin typeface="Arial"/>
                </a:rPr>
                <a:t>Καθαριότητα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" name="_s56345"/>
            <p:cNvSpPr/>
            <p:nvPr/>
          </p:nvSpPr>
          <p:spPr>
            <a:xfrm flipV="1">
              <a:off x="3181320" y="5390280"/>
              <a:ext cx="3139200" cy="354600"/>
            </a:xfrm>
            <a:custGeom>
              <a:avLst/>
              <a:gdLst>
                <a:gd name="textAreaLeft" fmla="*/ 378720 w 3139200"/>
                <a:gd name="textAreaRight" fmla="*/ 2760480 w 3139200"/>
                <a:gd name="textAreaTop" fmla="*/ 42840 h 354600"/>
                <a:gd name="textAreaBottom" fmla="*/ 311760 h 35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3366"/>
                  </a:solidFill>
                  <a:latin typeface="Arial"/>
                </a:rPr>
                <a:t>Περιβάλλον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" name="_s56358"/>
            <p:cNvSpPr/>
            <p:nvPr/>
          </p:nvSpPr>
          <p:spPr>
            <a:xfrm flipV="1">
              <a:off x="3406320" y="5035680"/>
              <a:ext cx="2689200" cy="354600"/>
            </a:xfrm>
            <a:custGeom>
              <a:avLst/>
              <a:gdLst>
                <a:gd name="textAreaLeft" fmla="*/ 342360 w 2689200"/>
                <a:gd name="textAreaRight" fmla="*/ 2346840 w 2689200"/>
                <a:gd name="textAreaTop" fmla="*/ 45000 h 354600"/>
                <a:gd name="textAreaBottom" fmla="*/ 309600 h 35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lnSpc>
                  <a:spcPct val="6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3366"/>
                  </a:solidFill>
                  <a:latin typeface="Arial"/>
                </a:rPr>
                <a:t>Βιομηχανία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" name="_s56357"/>
            <p:cNvSpPr/>
            <p:nvPr/>
          </p:nvSpPr>
          <p:spPr>
            <a:xfrm flipV="1">
              <a:off x="3631320" y="4680720"/>
              <a:ext cx="2239560" cy="354600"/>
            </a:xfrm>
            <a:custGeom>
              <a:avLst/>
              <a:gdLst>
                <a:gd name="textAreaLeft" fmla="*/ 305640 w 2239560"/>
                <a:gd name="textAreaRight" fmla="*/ 1933920 w 2239560"/>
                <a:gd name="textAreaTop" fmla="*/ 48240 h 354600"/>
                <a:gd name="textAreaBottom" fmla="*/ 306360 h 35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3366"/>
                  </a:solidFill>
                  <a:latin typeface="Arial"/>
                </a:rPr>
                <a:t>Μεταφορές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" name="_s56353"/>
            <p:cNvSpPr/>
            <p:nvPr/>
          </p:nvSpPr>
          <p:spPr>
            <a:xfrm flipV="1">
              <a:off x="3854520" y="4325760"/>
              <a:ext cx="1793160" cy="354600"/>
            </a:xfrm>
            <a:custGeom>
              <a:avLst/>
              <a:gdLst>
                <a:gd name="textAreaLeft" fmla="*/ 269640 w 1793160"/>
                <a:gd name="textAreaRight" fmla="*/ 1523520 w 1793160"/>
                <a:gd name="textAreaTop" fmla="*/ 53280 h 354600"/>
                <a:gd name="textAreaBottom" fmla="*/ 301320 h 35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3366"/>
                  </a:solidFill>
                  <a:latin typeface="Arial"/>
                </a:rPr>
                <a:t>Ενέργεια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" name="_s56352"/>
            <p:cNvSpPr/>
            <p:nvPr/>
          </p:nvSpPr>
          <p:spPr>
            <a:xfrm flipV="1">
              <a:off x="4078080" y="3972960"/>
              <a:ext cx="1346040" cy="353520"/>
            </a:xfrm>
            <a:custGeom>
              <a:avLst/>
              <a:gdLst>
                <a:gd name="textAreaLeft" fmla="*/ 233640 w 1346040"/>
                <a:gd name="textAreaRight" fmla="*/ 1112400 w 1346040"/>
                <a:gd name="textAreaTop" fmla="*/ 61200 h 353520"/>
                <a:gd name="textAreaBottom" fmla="*/ 292320 h 35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_s56346"/>
            <p:cNvSpPr/>
            <p:nvPr/>
          </p:nvSpPr>
          <p:spPr>
            <a:xfrm flipV="1">
              <a:off x="4302720" y="3617640"/>
              <a:ext cx="896400" cy="354600"/>
            </a:xfrm>
            <a:custGeom>
              <a:avLst/>
              <a:gdLst>
                <a:gd name="textAreaLeft" fmla="*/ 196920 w 896400"/>
                <a:gd name="textAreaRight" fmla="*/ 699480 w 896400"/>
                <a:gd name="textAreaTop" fmla="*/ 77760 h 354600"/>
                <a:gd name="textAreaBottom" fmla="*/ 276840 h 35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" name="_s56344"/>
            <p:cNvSpPr/>
            <p:nvPr/>
          </p:nvSpPr>
          <p:spPr>
            <a:xfrm flipV="1">
              <a:off x="4527720" y="3263040"/>
              <a:ext cx="446400" cy="354960"/>
            </a:xfrm>
            <a:custGeom>
              <a:avLst/>
              <a:gdLst>
                <a:gd name="textAreaLeft" fmla="*/ 160200 w 446400"/>
                <a:gd name="textAreaRight" fmla="*/ 286200 w 446400"/>
                <a:gd name="textAreaTop" fmla="*/ 127440 h 354960"/>
                <a:gd name="textAreaBottom" fmla="*/ 227520 h 35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Αίθουσα Συνεδριάσεων ΠΔΕ, Πάτρ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8C6-5AAA-4303-9929-533516181D4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4/2004</a:t>
            </a: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659880"/>
            <a:ext cx="7924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lang="el-GR" sz="3200" spc="-1" strike="noStrike">
                <a:solidFill>
                  <a:srgbClr val="006666"/>
                </a:solidFill>
                <a:latin typeface="Comic Sans MS"/>
              </a:rPr>
              <a:t>Προτεινόμενη δομή (3/4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400" spc="-1" strike="noStrike">
                <a:solidFill>
                  <a:srgbClr val="006666"/>
                </a:solidFill>
                <a:latin typeface="Comic Sans MS"/>
              </a:rPr>
              <a:t>Ανταγωνιστική Περιφέρεια (ενδεικτικές δράσεις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48560" y="3288240"/>
            <a:ext cx="3585960" cy="2837880"/>
            <a:chOff x="3148560" y="3288240"/>
            <a:chExt cx="3585960" cy="2837880"/>
          </a:xfrm>
        </p:grpSpPr>
        <p:sp>
          <p:nvSpPr>
            <p:cNvPr id="123" name="_s180236"/>
            <p:cNvSpPr/>
            <p:nvPr/>
          </p:nvSpPr>
          <p:spPr>
            <a:xfrm flipV="1">
              <a:off x="3148560" y="5771160"/>
              <a:ext cx="3585960" cy="354960"/>
            </a:xfrm>
            <a:custGeom>
              <a:avLst/>
              <a:gdLst>
                <a:gd name="textAreaLeft" fmla="*/ 415080 w 3585960"/>
                <a:gd name="textAreaRight" fmla="*/ 3170880 w 3585960"/>
                <a:gd name="textAreaTop" fmla="*/ 41040 h 354960"/>
                <a:gd name="textAreaBottom" fmla="*/ 313920 h 35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250" y="21600"/>
                  </a:lnTo>
                  <a:lnTo>
                    <a:pt x="135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lnSpc>
                  <a:spcPct val="6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3366"/>
                  </a:solidFill>
                  <a:latin typeface="Arial"/>
                </a:rPr>
                <a:t>Επιχειρηματικότητα (νέοι, γυναίκες, άτομα με ειδικές ανάγκες)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4" name="_s180235"/>
            <p:cNvSpPr/>
            <p:nvPr/>
          </p:nvSpPr>
          <p:spPr>
            <a:xfrm flipV="1">
              <a:off x="3371760" y="5415480"/>
              <a:ext cx="3139560" cy="354600"/>
            </a:xfrm>
            <a:custGeom>
              <a:avLst/>
              <a:gdLst>
                <a:gd name="textAreaLeft" fmla="*/ 378720 w 3139560"/>
                <a:gd name="textAreaRight" fmla="*/ 2760840 w 3139560"/>
                <a:gd name="textAreaTop" fmla="*/ 42840 h 354600"/>
                <a:gd name="textAreaBottom" fmla="*/ 311760 h 35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lnSpc>
                  <a:spcPct val="6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3366"/>
                  </a:solidFill>
                  <a:latin typeface="Arial"/>
                </a:rPr>
                <a:t>Ηλεκτρονική επιχειρηματικότητα / Ηλεκτρονικό εμπόριο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" name="_s180234"/>
            <p:cNvSpPr/>
            <p:nvPr/>
          </p:nvSpPr>
          <p:spPr>
            <a:xfrm flipV="1">
              <a:off x="3597120" y="5060880"/>
              <a:ext cx="2689200" cy="354600"/>
            </a:xfrm>
            <a:custGeom>
              <a:avLst/>
              <a:gdLst>
                <a:gd name="textAreaLeft" fmla="*/ 342360 w 2689200"/>
                <a:gd name="textAreaRight" fmla="*/ 2346840 w 2689200"/>
                <a:gd name="textAreaTop" fmla="*/ 45000 h 354600"/>
                <a:gd name="textAreaBottom" fmla="*/ 309600 h 35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lnSpc>
                  <a:spcPct val="6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3366"/>
                  </a:solidFill>
                  <a:latin typeface="Arial"/>
                </a:rPr>
                <a:t>Χρηματοδότηση νέων καινοτόμων ΜΜΕ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" name="_s180233"/>
            <p:cNvSpPr/>
            <p:nvPr/>
          </p:nvSpPr>
          <p:spPr>
            <a:xfrm flipV="1">
              <a:off x="3821760" y="4705920"/>
              <a:ext cx="2239920" cy="354600"/>
            </a:xfrm>
            <a:custGeom>
              <a:avLst/>
              <a:gdLst>
                <a:gd name="textAreaLeft" fmla="*/ 305640 w 2239920"/>
                <a:gd name="textAreaRight" fmla="*/ 1934280 w 2239920"/>
                <a:gd name="textAreaTop" fmla="*/ 48240 h 354600"/>
                <a:gd name="textAreaBottom" fmla="*/ 306360 h 35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3366"/>
                  </a:solidFill>
                  <a:latin typeface="Arial"/>
                </a:rPr>
                <a:t>Δημιουργία νέων καινοτόμων ΜΜΕ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" name="_s180232"/>
            <p:cNvSpPr/>
            <p:nvPr/>
          </p:nvSpPr>
          <p:spPr>
            <a:xfrm flipV="1">
              <a:off x="4044960" y="4350960"/>
              <a:ext cx="1793160" cy="354600"/>
            </a:xfrm>
            <a:custGeom>
              <a:avLst/>
              <a:gdLst>
                <a:gd name="textAreaLeft" fmla="*/ 269640 w 1793160"/>
                <a:gd name="textAreaRight" fmla="*/ 1523520 w 1793160"/>
                <a:gd name="textAreaTop" fmla="*/ 53280 h 354600"/>
                <a:gd name="textAreaBottom" fmla="*/ 301320 h 35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3366"/>
                  </a:solidFill>
                  <a:latin typeface="Arial"/>
                </a:rPr>
                <a:t>Μεταφορά καινοτομίας σε ΜΜΕ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_s180231"/>
            <p:cNvSpPr/>
            <p:nvPr/>
          </p:nvSpPr>
          <p:spPr>
            <a:xfrm flipV="1">
              <a:off x="4268520" y="3998160"/>
              <a:ext cx="1346040" cy="353520"/>
            </a:xfrm>
            <a:custGeom>
              <a:avLst/>
              <a:gdLst>
                <a:gd name="textAreaLeft" fmla="*/ 233640 w 1346040"/>
                <a:gd name="textAreaRight" fmla="*/ 1112400 w 1346040"/>
                <a:gd name="textAreaTop" fmla="*/ 61200 h 353520"/>
                <a:gd name="textAreaBottom" fmla="*/ 292320 h 35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3366"/>
                  </a:solidFill>
                  <a:latin typeface="Arial"/>
                </a:rPr>
                <a:t>Τηλε-εργασία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9" name="_s180230"/>
            <p:cNvSpPr/>
            <p:nvPr/>
          </p:nvSpPr>
          <p:spPr>
            <a:xfrm flipV="1">
              <a:off x="4493520" y="3642840"/>
              <a:ext cx="896400" cy="354600"/>
            </a:xfrm>
            <a:custGeom>
              <a:avLst/>
              <a:gdLst>
                <a:gd name="textAreaLeft" fmla="*/ 196920 w 896400"/>
                <a:gd name="textAreaRight" fmla="*/ 699480 w 896400"/>
                <a:gd name="textAreaTop" fmla="*/ 77760 h 354600"/>
                <a:gd name="textAreaBottom" fmla="*/ 276840 h 35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3366"/>
                  </a:solidFill>
                  <a:latin typeface="Arial"/>
                </a:rPr>
                <a:t>Δικτυώσεις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" name="_s180229"/>
            <p:cNvSpPr/>
            <p:nvPr/>
          </p:nvSpPr>
          <p:spPr>
            <a:xfrm flipV="1">
              <a:off x="4718520" y="3288240"/>
              <a:ext cx="446400" cy="354960"/>
            </a:xfrm>
            <a:custGeom>
              <a:avLst/>
              <a:gdLst>
                <a:gd name="textAreaLeft" fmla="*/ 160200 w 446400"/>
                <a:gd name="textAreaRight" fmla="*/ 286200 w 446400"/>
                <a:gd name="textAreaTop" fmla="*/ 127440 h 354960"/>
                <a:gd name="textAreaBottom" fmla="*/ 227520 h 35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Αίθουσα Συνεδριάσεων ΠΔΕ, Πάτρ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F916-041F-4A48-A8DB-0FC108B04E1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4/2004</a:t>
            </a: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659880"/>
            <a:ext cx="7924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lang="el-GR" sz="3200" spc="-1" strike="noStrike">
                <a:solidFill>
                  <a:srgbClr val="006666"/>
                </a:solidFill>
                <a:latin typeface="Comic Sans MS"/>
              </a:rPr>
              <a:t>Προτεινόμενη δομή (4/4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400" spc="-1" strike="noStrike">
                <a:solidFill>
                  <a:srgbClr val="006666"/>
                </a:solidFill>
                <a:latin typeface="Comic Sans MS"/>
              </a:rPr>
              <a:t>Ελκυστική Περιφέρεια (ενδεικτικές δράσεις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148560" y="3288240"/>
            <a:ext cx="3585960" cy="2837880"/>
            <a:chOff x="3148560" y="3288240"/>
            <a:chExt cx="3585960" cy="2837880"/>
          </a:xfrm>
        </p:grpSpPr>
        <p:sp>
          <p:nvSpPr>
            <p:cNvPr id="133" name="_s182277"/>
            <p:cNvSpPr/>
            <p:nvPr/>
          </p:nvSpPr>
          <p:spPr>
            <a:xfrm flipV="1">
              <a:off x="3148560" y="5771160"/>
              <a:ext cx="3585960" cy="354960"/>
            </a:xfrm>
            <a:custGeom>
              <a:avLst/>
              <a:gdLst>
                <a:gd name="textAreaLeft" fmla="*/ 415080 w 3585960"/>
                <a:gd name="textAreaRight" fmla="*/ 3170880 w 3585960"/>
                <a:gd name="textAreaTop" fmla="*/ 41040 h 354960"/>
                <a:gd name="textAreaBottom" fmla="*/ 313920 h 35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250" y="21600"/>
                  </a:lnTo>
                  <a:lnTo>
                    <a:pt x="135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3366"/>
                  </a:solidFill>
                  <a:latin typeface="Arial"/>
                </a:rPr>
                <a:t>Βιολογική γεωργία / Βιολογικές τροφές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" name="_s182278"/>
            <p:cNvSpPr/>
            <p:nvPr/>
          </p:nvSpPr>
          <p:spPr>
            <a:xfrm flipV="1">
              <a:off x="3371760" y="5415480"/>
              <a:ext cx="3139560" cy="354600"/>
            </a:xfrm>
            <a:custGeom>
              <a:avLst/>
              <a:gdLst>
                <a:gd name="textAreaLeft" fmla="*/ 378720 w 3139560"/>
                <a:gd name="textAreaRight" fmla="*/ 2760840 w 3139560"/>
                <a:gd name="textAreaTop" fmla="*/ 42840 h 354600"/>
                <a:gd name="textAreaBottom" fmla="*/ 311760 h 35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lnSpc>
                  <a:spcPct val="6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3366"/>
                  </a:solidFill>
                  <a:latin typeface="Arial"/>
                </a:rPr>
                <a:t>Πολιτισμός / Ψυχαγωγία / Τουρισμός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" name="_s182279"/>
            <p:cNvSpPr/>
            <p:nvPr/>
          </p:nvSpPr>
          <p:spPr>
            <a:xfrm flipV="1">
              <a:off x="3597120" y="5060880"/>
              <a:ext cx="2689200" cy="354600"/>
            </a:xfrm>
            <a:custGeom>
              <a:avLst/>
              <a:gdLst>
                <a:gd name="textAreaLeft" fmla="*/ 342360 w 2689200"/>
                <a:gd name="textAreaRight" fmla="*/ 2346840 w 2689200"/>
                <a:gd name="textAreaTop" fmla="*/ 45000 h 354600"/>
                <a:gd name="textAreaBottom" fmla="*/ 309600 h 35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lnSpc>
                  <a:spcPct val="6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3366"/>
                  </a:solidFill>
                  <a:latin typeface="Arial"/>
                </a:rPr>
                <a:t>Ηλεκτρονική διακυβέρνηση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_s182280"/>
            <p:cNvSpPr/>
            <p:nvPr/>
          </p:nvSpPr>
          <p:spPr>
            <a:xfrm flipV="1">
              <a:off x="3821760" y="4705920"/>
              <a:ext cx="2239920" cy="354600"/>
            </a:xfrm>
            <a:custGeom>
              <a:avLst/>
              <a:gdLst>
                <a:gd name="textAreaLeft" fmla="*/ 305640 w 2239920"/>
                <a:gd name="textAreaRight" fmla="*/ 1934280 w 2239920"/>
                <a:gd name="textAreaTop" fmla="*/ 48240 h 354600"/>
                <a:gd name="textAreaBottom" fmla="*/ 306360 h 35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3366"/>
                  </a:solidFill>
                  <a:latin typeface="Arial"/>
                </a:rPr>
                <a:t>Εκπαίδευση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" name="_s182281"/>
            <p:cNvSpPr/>
            <p:nvPr/>
          </p:nvSpPr>
          <p:spPr>
            <a:xfrm flipV="1">
              <a:off x="4044960" y="4350960"/>
              <a:ext cx="1793160" cy="354600"/>
            </a:xfrm>
            <a:custGeom>
              <a:avLst/>
              <a:gdLst>
                <a:gd name="textAreaLeft" fmla="*/ 269640 w 1793160"/>
                <a:gd name="textAreaRight" fmla="*/ 1523520 w 1793160"/>
                <a:gd name="textAreaTop" fmla="*/ 53280 h 354600"/>
                <a:gd name="textAreaBottom" fmla="*/ 301320 h 35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3366"/>
                  </a:solidFill>
                  <a:latin typeface="Arial"/>
                </a:rPr>
                <a:t>Αθλητισμός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" name="_s182282"/>
            <p:cNvSpPr/>
            <p:nvPr/>
          </p:nvSpPr>
          <p:spPr>
            <a:xfrm flipV="1">
              <a:off x="4268520" y="3998160"/>
              <a:ext cx="1346040" cy="353520"/>
            </a:xfrm>
            <a:custGeom>
              <a:avLst/>
              <a:gdLst>
                <a:gd name="textAreaLeft" fmla="*/ 233640 w 1346040"/>
                <a:gd name="textAreaRight" fmla="*/ 1112400 w 1346040"/>
                <a:gd name="textAreaTop" fmla="*/ 61200 h 353520"/>
                <a:gd name="textAreaBottom" fmla="*/ 292320 h 35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3366"/>
                  </a:solidFill>
                  <a:latin typeface="Arial"/>
                </a:rPr>
                <a:t>Δικαιοσύνη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_s182283"/>
            <p:cNvSpPr/>
            <p:nvPr/>
          </p:nvSpPr>
          <p:spPr>
            <a:xfrm flipV="1">
              <a:off x="4493520" y="3642840"/>
              <a:ext cx="896400" cy="354600"/>
            </a:xfrm>
            <a:custGeom>
              <a:avLst/>
              <a:gdLst>
                <a:gd name="textAreaLeft" fmla="*/ 196920 w 896400"/>
                <a:gd name="textAreaRight" fmla="*/ 699480 w 896400"/>
                <a:gd name="textAreaTop" fmla="*/ 77760 h 354600"/>
                <a:gd name="textAreaBottom" fmla="*/ 276840 h 35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3366"/>
                  </a:solidFill>
                  <a:latin typeface="Arial"/>
                </a:rPr>
                <a:t>Υγεία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_s182284"/>
            <p:cNvSpPr/>
            <p:nvPr/>
          </p:nvSpPr>
          <p:spPr>
            <a:xfrm flipV="1">
              <a:off x="4718520" y="3288240"/>
              <a:ext cx="446400" cy="354960"/>
            </a:xfrm>
            <a:custGeom>
              <a:avLst/>
              <a:gdLst>
                <a:gd name="textAreaLeft" fmla="*/ 160200 w 446400"/>
                <a:gd name="textAreaRight" fmla="*/ 286200 w 446400"/>
                <a:gd name="textAreaTop" fmla="*/ 127440 h 354960"/>
                <a:gd name="textAreaBottom" fmla="*/ 227520 h 35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Αίθουσα Συνεδριάσεων ΠΔΕ, Πάτρ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9147-F373-432E-A6D3-8894DA1FCA8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4/2004</a:t>
            </a: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0240" y="725040"/>
            <a:ext cx="7967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Comic Sans MS"/>
              </a:rPr>
              <a:t>Χαρακτηριστικά των έργων</a:t>
            </a:r>
            <a:r>
              <a:rPr b="1" lang="el-GR" sz="32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lang="el-GR" sz="3200" spc="-1" strike="noStrike">
                <a:solidFill>
                  <a:srgbClr val="006666"/>
                </a:solidFill>
                <a:latin typeface="Comic Sans MS"/>
              </a:rPr>
              <a:t>που θα συμπεριλάβει (1/3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23480" y="2604960"/>
            <a:ext cx="7783560" cy="34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να είναι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ώριμα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και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συγκροτημένα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να παρουσιάζουν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υψηλό δείκτη καινοτομία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και, ενδεχομένως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ρίσκου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, από άποψη τεχνολογιών που ενσωματώνουν, ή / και διαδικασιών που ακολουθούν, ή / και προϊόντων που παράγουν ή υπηρεσιών που προσφέρου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τα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αποτελέσματά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τους να έχουν ξεκάθαρη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περιφερειακή διάσταση και κάλυψη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(εφαρμογή στους Νομούς Αχαΐας, Ηλείας και Αιτωλοακαρνανίας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να περιλαμβάνουν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δημόσιους και ιδιωτικού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φορείς με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Ανάδοχο Δημόσιο Φορέα ή ΝΠΙΔ μη κερδοσκοπικ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Αίθουσα Συνεδριάσεων ΠΔΕ, Πάτρ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0C16-BA3F-48CB-829B-285AD496CB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4/2004</a:t>
            </a: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0T13:59:05Z</dcterms:created>
  <dc:creator>Στέφανος Μίχος</dc:creator>
  <dc:description/>
  <dc:language>en-US</dc:language>
  <cp:lastModifiedBy>user</cp:lastModifiedBy>
  <dcterms:modified xsi:type="dcterms:W3CDTF">2004-04-26T16:38:48Z</dcterms:modified>
  <cp:revision>230</cp:revision>
  <dc:subject/>
  <dc:title>ERDF INNOVATIVE ACTIONS 2000-2006    PROGRAMME “INN • ACT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2</vt:r8>
  </property>
  <property fmtid="{D5CDD505-2E9C-101B-9397-08002B2CF9AE}" pid="3" name="Version">
    <vt:r8>5</vt:r8>
  </property>
</Properties>
</file>