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63DD-CA80-4630-8001-9FE73A00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234A-8EFD-49AD-9C82-D64580A3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8795-E53E-4979-97A6-0B597B1B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8C85-2B6A-4486-953F-0FD65D6E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DD18-9816-4EB1-973A-3459759F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FFC-4DE5-4E9B-A770-526C3A21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7985-94E4-4074-AAD8-98A9974C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B32-CEF6-41F0-86D4-32729BEF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6B8D-9717-474D-8A42-E119B5E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A15-FCBE-4C19-B5B9-AAFDF20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3573-55F0-4B4B-B46E-5377840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2E95-DC85-4266-B76C-90D73A89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3AD-CB1D-40F7-9AB4-F4EA701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A42-B930-4F5A-B1D3-1667F45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96E-23A1-4507-945D-CF0F469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54C-6B70-49F6-8599-A5D14A57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C3B-49AE-458E-95A6-2AE9513C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876B-845B-4B36-880D-2F5EE78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AECF-25DC-42CC-8D21-4E4E3B10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BC19-D18F-4AAC-91AC-3E612B0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99DA-0A0A-42A9-8E1D-B6BD0FF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8DBB-3DA0-46DD-9075-9C937C4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FCC1-2594-42C9-8FEE-B0CFA1C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1E20-0987-4B1B-861B-F31EE41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8356-3CFC-45A8-880A-DCB348F4C1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EB23-29E5-4DF7-AB52-7D4101F61A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uropa.eu.int/comm/regional_policy/index_en.htm" TargetMode="External"/><Relationship Id="rId2" Type="http://schemas.openxmlformats.org/officeDocument/2006/relationships/hyperlink" Target="http://europa.eu.int/comm/regional_policy/innovation/index_en.htm" TargetMode="External"/><Relationship Id="rId3" Type="http://schemas.openxmlformats.org/officeDocument/2006/relationships/hyperlink" Target="http://europa.eu.int/comm/regional_policy/innovation/index_en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ΚΑΙΝΟΤΟΜΕΣ ΕΝΕΡΓΕΙΕΣ </a:t>
            </a:r>
            <a:br>
              <a:rPr sz="3200"/>
            </a:b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ΤΟΥ </a:t>
            </a:r>
            <a:br>
              <a:rPr sz="3200"/>
            </a:b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ΕΥΡΩΠΑΪΚΟΥ ΤΑΜΕΙΟΥ </a:t>
            </a:r>
            <a:br>
              <a:rPr sz="3200"/>
            </a:b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ΠΕΡΙΦΕΡΕΙΑΚΗΣ ΑΝΑΠΤΥΞΗΣ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000 - 2006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Δρ. Χρήστος Τζομάκ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Περιφερειακό Ταμείο Ανάπτυξη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Περιφέρεια Δυτικής Ελλάδ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ail: ctzomakas@ptapde.g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54200" cy="11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5280" y="333360"/>
          <a:ext cx="129708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3360"/>
                    <a:ext cx="1297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768200" y="5734080"/>
            <a:ext cx="4516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instorming Meeting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, Πάτρ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27/04/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More info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al Policy - Inforeg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europa.eu.int/comm/regional_policy/index_e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al Policy - Innovative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europa.eu.int/comm/regional_policy/</a:t>
            </a:r>
            <a:r>
              <a:rPr b="0" lang="el-GR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innovation/index_e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ΕΥΡΩΠΑΪΚΟ ΤΑΜΕΙΟ ΠΕΡΙΦΕΡΕΙΑΚΗΣ ΑΝΑΠΤΥΞΗΣ (ΕΤΠΑ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Το ΕΤΠΑ έχει σαν στόχο τη μείωση των δυσαναλογιών μεταξύ των περιφερειών της Κοινότητα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Αποτελεί το μεγαλύτερο των Διαρθρωτικών Ταμείων της ΕΕ σε ότι αφορά τους οικονομικούς πόρ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Το Ταμείο ιδρύθηκε το 1975 και παρέχει οικονομική βοήθεια για τα αναπτυξιακά έργα στις φτωχότερες περιφέρει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cc"/>
                </a:solidFill>
                <a:uFillTx/>
                <a:latin typeface="Tahoma"/>
              </a:rPr>
              <a:t>ΕΥΡΩΠΑΪΚΟ ΤΑΜΕΙΟ ΠΕΡΙΦΕΡΕΙΑΚΗΣ ΑΝΑΠΤΥΞΗΣ (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cont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ΕΤΠΑ συγχρηματοδοτεί μαζί με άλλα Διαρθρωτικά Ταμεία Προγράμματα των Στόχων 1 και 2 με στόχο την ενίσχυση της ανταγωνιστικότητας της Ευρωπαϊκής Οικονομίας (πχ υλικές υποδομέ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Προγράμματα Καινοτόμων Ενεργειών του ΕΤΠΑ αποσκοπούν στην μείωση των αποκλίσεων ανάπτυξης σε άυλους τομείς ανταγωνιστικότητας (ικανότητα καινοτομίας, επιχειρηματική νοοτροπία που προάγει το πνεύμα πρωτοβουλίας, ποιότητα διαχείρισης, εταιρική σχέση δημόσιου-ιδιωτικού τομέα κλ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ΟΡΙΣΜΟΣ ΚΑΙΝΟΤΟΜΙΑΣ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«Ο όρος καινοτομία ορίζει τόσο μια διαδικασία όσο και το αποτέλεσμά της» (Πράσινο Βιβλίο για την καινοτομία, ΕΕ, 1996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(95)688).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τατροπή μιας ιδέας σε εμπορεύσιμο προϊόν ή υπηρεσία, λειτουργική μέθοδο παραγωγής ή διανομής – νέα ή βελτιωμένη – ή ακόμα σε νέα μέθοδο παροχής κοινωνικής υπηρεσία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ΚΑΙΝΟΤΟΜΕΣ ΕΝΕΡΓΕΙΕΣ ΤΟΥ ΕΤΠ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uropean Business and Innovation Centres (since 19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όγραμμα Καινοτόμων Ενεργειών για την περίοδο 1994-199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8 θεματικές ενότητ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350 καινοτόμα έργ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2.000 οργανισμο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όγραμμα Καινοτόμων Ενεργειών για την περίοδο 2000-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3 θεματικές ενότητ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126 εγκεκριμένα έργα (τέλος 200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Συμμετοχή ΠΔΕ (πρόγραμμα ΙΝ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T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2002-200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ΚΑΙΝΟΤΟΜΕΣ ΕΝΕΡΓΕΙΕΣ ΤΟΥ ΕΤΠΑ 2000 – 200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ffff"/>
                </a:solidFill>
                <a:latin typeface="Tahoma"/>
              </a:rPr>
              <a:t>Στόχο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Προώθηση της Καινοτομίας στα πλαίσια της Περιφερειακής Ανάπτυξης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Βελτίωση της ποιότητας των παρεμβάσεων των προγραμμάτων των Ευρωπαϊκών Διαρθρωτικών Ταμείων για τους Στόχους 1 και 2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ffff"/>
                </a:solidFill>
                <a:latin typeface="Tahoma"/>
              </a:rPr>
              <a:t>Δικαιούχοι Φορεί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Περιφέρειες που παρουσιάζουν αναπτυξιακή καθυστέρηση (Στόχος 1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Περιφέρειες που αποτελούν αντικείμενο ανασυγκρότησης (Στόχος 2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ffff"/>
                </a:solidFill>
                <a:latin typeface="Tahoma"/>
              </a:rPr>
              <a:t>Πτυχές της νέας γενιάς καινοτόμων ενεργειών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Συγχρηματοδότηση περιφερειακών προγραμμάτων καινοτόμων ενεργειών (ΠΠΚΕ) και πιλοτικών έργων που προκύπτουν από αυτά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Συνοδευτικά μέτρα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Στήριξη της ανταλλαγής εμπειριών και της δημιουργίας δικτύων μεταξύ περιφερειών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Tahoma"/>
              </a:rPr>
              <a:t>Διοργάνωση διαγωνισμών για την επισήμανση και την αξιοποίηση των βέλτιστων πρακτικών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ΘΕΜΑΤΑ ΣΤΡΑΤΗΓΙΚΗΣ ΤΩΝ ΚΑΙΝΟΤΟΜΩΝ ΕΝΕΡΓΕΙΩΝ 2000-200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Περιφερειακή οικονομία βασισμένη στη γνώση και την τεχνολογική καινοτομία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παροχή βοήθειας στις πλέον μειονεκτικές περιοχές με σκοπό την άνοδο του τεχνολογικού επιπέδου τους (ανάπτυξη ανταγωνιστικών πλεονεκτημάτων αντί μείωση του κόστους, διασύνδεση έρευνας και αγοράς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art-ups, spin-offs,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κλ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EuropeRegio :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η κοινωνία των πληροφοριών στην υπηρεσία της περιφερειακής ανάπτυξης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(συλλογική πρόσβαση στο Διαδίκτυο, δημιουργία εταιρικών σχέσεων, ηλεκτρονικές υπηρεσίες, κ.α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Περιφερειακή ταυτότητα και αειφόρος ανάπτυξη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προώθηση της περιφερειακής συνοχής και ανταγωνιστικότητας μέσω μιας ολοκληρωμένης προσέγγισης των οικονομικών, περιβαλλοντικών, πολιτιστικών και κοινωνικών δραστηριοτήτων (στήριξη παραδοσιακών τομέων παραγωγής, ΜΜΕ, οικολογικός τουρισμός, βελτίωση πλαισίου διαβίωσης, ανακύκλωση κ.α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ΟΡΓΑΝΩΣΗ ΠΕΡΙΦΕΡΕΙΑΚΟΥ ΠΡΟΓΡΑΜΜΑΤΟΣ ΚΑΙΝΟΤΟΜΩΝ ΕΝΕΡΓΕΙΩΝ 2000-200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Αρμόδιος Φορέας Διεύθυνσης και Υλοποίησης ΠΠΚΕ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οι επιλέξιμες περιφέρειε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Ορισμός Οργανισμού Διαχείρισης, Οργανισμού Πληρωμών και Επιτροπής Καθοδήγησης από την αρμόδια αρχή της Περιφέρεια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Υποβολή Πρότασης Προγράμματος έως τις 31 Μαΐου κάθε έτους κατά την περίοδο 2001-2005 (κοινοτική στήριξη έως 2 προγραμμάτων ανά περιφέρεια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Μέγιστη διάρκεια προγράμματος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: 2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έτ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Συμμετοχή ΕΤΠΑ στα επιλεγέντα ΠΠΚΕ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 50% (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έως 80% για Περιφέρειες Στόχου 1 και έως 60% για Περιφέρειες Στόχου 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Χρηματοδότηση ΕΤΠΑ ανά ΠΠΚΕ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 3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€ - 3Μ € (συνολικός προϋπολογισμός ΕΤΠΑ για καινοτόμες ενέργειες κατά την περίοδο 2000-200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~450Μ €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Αξιολόγηση των Περιφερειακών Προγραμμάτων Καινοτόμων Ενεργειών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Ποιότητα της πρόταση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Δυνητική επίδραση στα προγράμματα για τους Στόχους 1 και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Σκοπιμότητα της Πρότασης και συνοχή μεταξύ των καθορισθέντων στόχων και των χορηγούμενων πόρω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Αναμενόμενος αντίκτυπος στις ζώνες των Στόχων 1 και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Συνεισφορά του ιδιωτικού τομέα στη χρηματοδότηση του προγράμματο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Κινητοποίηση και ποιότητα της περιφερειακής εταιρικής σχέσης δημόσιου-ιδιωτικού τομέ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Τρόποι συνεργασίας μεταξύ των αρμόδιων αρχών των περιφερειών για τα ΠΠΚΕ και των αρχών διαχείρισης των προγραμμάτων για τους Στόχους 1 και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Προβλέψιμος διαρκής αντίκτυπος των ενεργειών μετά το πέρας του ΠΠΚ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Δυνατότητα μεταφοράς των αποτελεσμάτων σε άλλες περιφέρειε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Συνεργία και συμβατότητα με τις άλλες κοινοτικές πολιτικές (έρευνα, ΚτΠ, ΜΜΕ, περιβάλλον, αγροτική ανάπτυξη, ισότητα ευκαιριών κ.α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6:52:25Z</dcterms:created>
  <dc:creator>tzomakas</dc:creator>
  <dc:description/>
  <dc:language>en-US</dc:language>
  <cp:lastModifiedBy>tzomakas</cp:lastModifiedBy>
  <dcterms:modified xsi:type="dcterms:W3CDTF">2004-04-26T18:11:15Z</dcterms:modified>
  <cp:revision>9</cp:revision>
  <dc:subject/>
  <dc:title>ΠΡΟΓΡΑΜΜΑ ΚΑΙΝΟΤΟΜΩΝ ΔΡΑΣΕΩΝ ΤΟΥ ΕΥΡΩΠΑΪΚΟΥ ΤΑΜΕΙΟΥ ΠΕΡΙΦΕΡΕΙΑΚΗΣ ΑΝΑΠΤΥΞΗΣ</dc:title>
</cp:coreProperties>
</file>