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5E0-FDC4-4CF2-8F60-A8850933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BC6-3082-4BB1-A4FE-1703A534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F7F-3F22-46F0-B438-298A007F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BBD-B99A-4836-8C6A-EEF495F7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C1E-7132-4944-9FD2-5335C4B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9CD-B0C1-4EF3-B307-C60BCE77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00A-6BD5-40FB-B3F5-7C6B247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ABC-64CF-4CE3-B3D1-3BA771B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E6D-3731-4DB1-827A-0FBF1EF6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68D-B7DE-4E65-BC1C-5F27E1F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FD9-2217-4077-BCE6-47F05DA6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56C-64FF-4ADA-A86E-10F1BF2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05BA-BB68-44FD-A532-B98B021C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1752480"/>
            <a:ext cx="7848360" cy="4038480"/>
            <a:chOff x="457200" y="1752480"/>
            <a:chExt cx="7848360" cy="4038480"/>
          </a:xfrm>
        </p:grpSpPr>
        <p:sp>
          <p:nvSpPr>
            <p:cNvPr id="42" name=""/>
            <p:cNvSpPr/>
            <p:nvPr/>
          </p:nvSpPr>
          <p:spPr>
            <a:xfrm>
              <a:off x="457200" y="3342240"/>
              <a:ext cx="1664640" cy="121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Στρατηγική Προώθησης Απασχόληση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954160" y="3342240"/>
              <a:ext cx="1545840" cy="10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Κεντρικό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Στόχο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21840" y="3948120"/>
              <a:ext cx="83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0640" y="1752480"/>
              <a:ext cx="1902600" cy="121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Ελαχιστοποίηση Υφιστάμενης Ανεργία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570640" y="3165840"/>
              <a:ext cx="2734920" cy="121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Ελαχιστοποίηση Απώλειας Θέσεων Εργασία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70640" y="4579560"/>
              <a:ext cx="2616120" cy="121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Μεγιστοποίηση του ρυθμού δημιουργίας νέων θέσεων εργασία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00360" y="3745800"/>
              <a:ext cx="107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0360" y="2534040"/>
              <a:ext cx="1070280" cy="12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00360" y="3745800"/>
              <a:ext cx="1070280" cy="161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990720" y="30492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Μεθοδολογία Στρατηγικής Απασχόλ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ατανομή Δείγματος Εργαζομένων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νά Νομό και Τομέ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24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752480"/>
          <a:ext cx="8001000" cy="467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00100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Επίπεδο Κατάρτισης ανά κλάδ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287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84582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0000"/>
                </a:solidFill>
                <a:latin typeface="Times New Roman"/>
              </a:rPr>
              <a:t>Χαρακτηριστικά Απασχολησιμότητ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Η απασχολησιμότητα κατά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lage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ard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8)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εν είναι ιδιαίτερα αναπτυγμένο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χαρακτηριστικό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υς εργαζόμενους της ΠΔΕ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Η απασχολησιμότητα διαφέρει σημαντικά μεταξύ ανέργων και εργαζομένω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ημαντικός παράγοντας διαφοροποίησης της απασχόλησης στην Περιφέρεια έχε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εωγραφικά χαρακτηριστικά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ου όμως ε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αρτ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ώνται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έντονα από την φύση των δραστηριοτήτων που δημιουργούν την αντίστοιχη απασχόλ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τον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. Αχαΐας εμφανίζεται σημαντική συγκέντρωση απασχολουμένων υψηλής ειδίκευσης που συγκροτούν έναν πυρήνα ανθρώπινου κεφαλαίου που μπορεί να στηρίξει την ανάπτυξη οικονομικών δραστηριοτήτων έντασης γνώσης και τεχνολογία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υϊκότητα ως προς την κατάρτ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Παράγοντες Απασχολησιμότητ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33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676520"/>
          <a:ext cx="79246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924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99"/>
                </a:solidFill>
                <a:latin typeface="Times New Roman"/>
              </a:rPr>
              <a:t>Κύριοι Παράγοντες Απασχολησιμότητ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ετικ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ρνητικ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η Σημαντικ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D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πασχολησιμότητα και χαρακτηριστικά εργαζο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640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077320" cy="48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773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Σχετικός κίνδυνος απώλειας εργασ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24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76520"/>
          <a:ext cx="815328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153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Κίνδυνος και ηλικία εργαζο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24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1295280"/>
          <a:ext cx="769644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696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9999"/>
                </a:solidFill>
                <a:latin typeface="Times New Roman"/>
              </a:rPr>
              <a:t>Μειονεκτήματα – Πλεονεκτήματα επιχειρήσεων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2408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792468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792468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660066"/>
                </a:solidFill>
                <a:latin typeface="Times New Roman"/>
              </a:rPr>
              <a:t>Κατανομή Ανέργων ανά Νομό και Φύλλ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3055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09480" y="1523880"/>
            <a:ext cx="7923240" cy="4533840"/>
            <a:chOff x="609480" y="1523880"/>
            <a:chExt cx="7923240" cy="4533840"/>
          </a:xfrm>
        </p:grpSpPr>
        <p:sp>
          <p:nvSpPr>
            <p:cNvPr id="53" name=""/>
            <p:cNvSpPr/>
            <p:nvPr/>
          </p:nvSpPr>
          <p:spPr>
            <a:xfrm>
              <a:off x="1062000" y="1523880"/>
              <a:ext cx="1811160" cy="9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</a:rPr>
                <a:t>Ελαχιστοποίηση Υφιστάμενης Ανεργία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2000" y="2657160"/>
              <a:ext cx="2150280" cy="9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</a:rPr>
                <a:t>Ελαχιστοποίηση Απώλειας Θέσεων Εργασία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2000" y="3953160"/>
              <a:ext cx="2377080" cy="9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</a:rPr>
                <a:t>Μεγιστοποίηση του ρυθμού δημιουργίας νέων θέσεων εργασία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21560" y="1847520"/>
              <a:ext cx="135828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cc3300"/>
                  </a:solidFill>
                  <a:latin typeface="Times New Roman"/>
                </a:rPr>
                <a:t>Άνεργο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21560" y="2981880"/>
              <a:ext cx="158436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cc3300"/>
                  </a:solidFill>
                  <a:latin typeface="Times New Roman"/>
                </a:rPr>
                <a:t>Εργαζόμενο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34960" y="4276800"/>
              <a:ext cx="169776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00"/>
                  </a:solidFill>
                  <a:latin typeface="Times New Roman"/>
                </a:rPr>
                <a:t>Επιχειρήσει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73160" y="2009520"/>
              <a:ext cx="384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39080" y="2171160"/>
              <a:ext cx="328248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12640" y="3143520"/>
              <a:ext cx="35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439080" y="3305520"/>
              <a:ext cx="328248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39080" y="4438800"/>
              <a:ext cx="339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73160" y="2009520"/>
              <a:ext cx="3961800" cy="24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12640" y="3143520"/>
              <a:ext cx="362232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2009520"/>
              <a:ext cx="45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80" y="3143520"/>
              <a:ext cx="45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480" y="4438800"/>
              <a:ext cx="45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2009520"/>
              <a:ext cx="0" cy="356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5572080"/>
              <a:ext cx="21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760" y="5248440"/>
              <a:ext cx="1810800" cy="80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0000"/>
                  </a:solidFill>
                  <a:latin typeface="Times New Roman"/>
                </a:rPr>
                <a:t>Προώθηση της Απασχόληση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144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ff00"/>
                </a:solidFill>
                <a:latin typeface="Times New Roman"/>
              </a:rPr>
              <a:t>Έρευνες Πεδίου – Στόχοι – Ομάδες στόχο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660066"/>
                </a:solidFill>
                <a:latin typeface="Times New Roman"/>
              </a:rPr>
              <a:t>Κατανομή Ανέργων ανά Ηλικία και Φύλλ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1523880"/>
          <a:ext cx="845820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45820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Χαρακτηριστικά Ανέργων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668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523880"/>
          <a:ext cx="41911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41911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1718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191120" y="1676520"/>
          <a:ext cx="495288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676520"/>
                    <a:ext cx="4952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Χαρακτηριστικά Ανέργων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0044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371600"/>
          <a:ext cx="38098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809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05740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733920" y="1447920"/>
          <a:ext cx="5410080" cy="4363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541008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υσσώρευση Ανθρώπινου Κεφαλαί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219320"/>
            <a:ext cx="7239240" cy="5410080"/>
            <a:chOff x="838080" y="1219320"/>
            <a:chExt cx="7239240" cy="5410080"/>
          </a:xfrm>
        </p:grpSpPr>
        <p:sp>
          <p:nvSpPr>
            <p:cNvPr id="146" name=""/>
            <p:cNvSpPr/>
            <p:nvPr/>
          </p:nvSpPr>
          <p:spPr>
            <a:xfrm>
              <a:off x="3385440" y="1219320"/>
              <a:ext cx="1990440" cy="772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Times New Roman"/>
                </a:rPr>
                <a:t>Συσσώρευση ανθρωπίνου κεφαλαίο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8720" y="2510640"/>
              <a:ext cx="1279440" cy="64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Επίσημες διαδικασίε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8080" y="2510640"/>
              <a:ext cx="1279440" cy="64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Ανεπίσημες διαδικασίε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2480" y="3540240"/>
              <a:ext cx="1279440" cy="514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Εκπαίδευσ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4440" y="3540240"/>
              <a:ext cx="1279440" cy="514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Κατάρτισ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96080" y="4312440"/>
              <a:ext cx="1137240" cy="514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Γνωστικέ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3480" y="4312440"/>
              <a:ext cx="1421640" cy="514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Times New Roman"/>
                </a:rPr>
                <a:t>Μη γνωστικέ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5857200"/>
              <a:ext cx="1279440" cy="772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Διαχείριση άλλης επιχείρηση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47840" y="5857200"/>
              <a:ext cx="1279440" cy="772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Κατάρτιση στην εργασί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69840" y="5857200"/>
              <a:ext cx="1279440" cy="64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Εργασιακή εμπειρί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91480" y="5857200"/>
              <a:ext cx="1563840" cy="772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Επιχειρηματικό οικογενειακό περιβάλλο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97880" y="5857200"/>
              <a:ext cx="1279440" cy="772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Times New Roman"/>
                </a:rPr>
                <a:t>Άτομο μεγαλωμένο στην περιοχή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816640" y="1989360"/>
              <a:ext cx="995040" cy="6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4880" y="1989360"/>
              <a:ext cx="852840" cy="6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537200" y="3147840"/>
              <a:ext cx="42624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90040" y="3147840"/>
              <a:ext cx="56844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664520" y="3147840"/>
              <a:ext cx="995400" cy="11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6880" y="3147840"/>
              <a:ext cx="995040" cy="11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536840" y="4821120"/>
              <a:ext cx="270108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101040" y="4821120"/>
              <a:ext cx="12794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23040" y="4821120"/>
              <a:ext cx="1418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44320" y="4821120"/>
              <a:ext cx="8528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24480" y="4821120"/>
              <a:ext cx="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ιτίες Ανεργ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385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066680"/>
          <a:ext cx="3657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3657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505320" y="1295280"/>
          <a:ext cx="540072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295280"/>
                    <a:ext cx="5400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Προσαρμοστικότητα Ανέργ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45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371600"/>
          <a:ext cx="42670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4267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77668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267080" y="1371600"/>
          <a:ext cx="464832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371600"/>
                    <a:ext cx="4648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Επιχειρηματικότητα Ανέργ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240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1447920"/>
          <a:ext cx="8001000" cy="41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0010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πιχειρηματικότητα &amp; Τόπος Εγκατάστα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2408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1447920"/>
          <a:ext cx="845820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4582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660066"/>
                </a:solidFill>
                <a:latin typeface="Times New Roman"/>
              </a:rPr>
              <a:t>Βασικά Συμπεράσ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Η απασχόληση είναι περισσότερο συνδεδεμένη από ότι αναμενόταν με την Οικονομική Ανάπτυξη και λιγότερο με την προσαρμογή του εργατικού δυναμικ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ff"/>
                </a:solidFill>
                <a:latin typeface="Times New Roman"/>
              </a:rPr>
              <a:t>Η παραγωγικότητα της εργασίας επηρεάζεται τόσο από την προσαρμογή του εργατικού δυναμικού όσο και από τη συσσώρευση κεφαλαίου και γνώσ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cc00"/>
                </a:solidFill>
                <a:latin typeface="Times New Roman"/>
              </a:rPr>
              <a:t>Διαχρονικά η  ανάπτυξη παρουσιάζει μικρότερους πολλαπλασιαστές απασχόλησης (’80 -’10: 1-0.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990000"/>
                </a:solidFill>
                <a:latin typeface="Times New Roman"/>
              </a:rPr>
              <a:t>«Λίμνες ανεργίας» που βραχυ- και μεσοπρόθεσμα αντιμετωπίζονται μόνο με επιδοματικές πολιτικ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8000"/>
                </a:solidFill>
                <a:latin typeface="Times New Roman"/>
              </a:rPr>
              <a:t>ΣΤΟΙΧΕΙΑ ΣΤΡΑΤΗΓΙΚΗΣ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14300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Narrow"/>
              </a:rPr>
              <a:t>ΑΝΑΠΤΥΞ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36232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ΝΔΟΓΕ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36232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ΞΩΓΕ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28195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Τοπικά Συγκριτικά Πλεονεκτήματα –&gt; Επενδύσεις Μικρού Κόστους –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αρεμβά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429000"/>
            <a:ext cx="312444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Υπερ-περιφερειακά, Εθνικά και Διεθνή Συγκριτικά Πλεονεκτήματα –&gt; Επενδύσεις Υψηλού Κόστους --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αρεμβάσεις σε Υποδομ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5257800"/>
            <a:ext cx="4114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ροσαρμογή Εργατικού Δυναμικ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6019920"/>
            <a:ext cx="4419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Narrow"/>
              </a:rPr>
              <a:t>ΕΝΙΣΧΥΣΗ ΤΗΣ ΑΠΑΣΧΟΛ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2057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281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6708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50292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0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2590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34520" y="2590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705720" y="6324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5486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686800" y="15235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05520" y="1523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6600ff"/>
                </a:solidFill>
                <a:latin typeface="Times New Roman"/>
              </a:rPr>
              <a:t>Έρευνα Επιχειρήσε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686800" cy="4525920"/>
        </p:xfrm>
        <a:graphic>
          <a:graphicData uri="http://schemas.openxmlformats.org/drawingml/2006/table">
            <a:tbl>
              <a:tblPr/>
              <a:tblGrid>
                <a:gridCol w="1447920"/>
                <a:gridCol w="2057400"/>
                <a:gridCol w="2361960"/>
                <a:gridCol w="2181240"/>
                <a:gridCol w="638280"/>
              </a:tblGrid>
              <a:tr h="520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Νομό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Σύνολο Ερωτ/γ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Συνολο Ερωτ/γιων Β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γε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Συνολο Ερωτ/γιων Γ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γε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Αιτ/νί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Αχαΐ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Ηλεί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Σύνολ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8000"/>
                </a:solidFill>
                <a:latin typeface="Times New Roman"/>
              </a:rPr>
              <a:t>ΣΤΟΙΧΕΙΑ ΣΤΡΑΤΗΓΙΚΗΣ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67652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ΝΔΟΓΕ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600200"/>
            <a:ext cx="2209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Τοπικά Συγκριτικά Πλεονεκτήματα –&gt; Επενδύσεις Μικρού Κόστους –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αρεμβά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190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600200"/>
            <a:ext cx="198144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Τοπικ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Νομαρχιακ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εριφερειακ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434340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ΞΩΓΕ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4191120"/>
            <a:ext cx="312444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Υπερ-περιφερειακά, Εθνικά και Διεθνή Συγκριτικά Πλεονεκτήματα –&gt; Επενδύσεις Υψηλού Κόστους --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αρεμβάσεις σε Υποδομ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352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 Narrow"/>
              </a:rPr>
              <a:t>ΠΛΗΣΡΗΣ ΤΕΚΜΗΡΙΩΣΗ –&gt; ΣΥΝΤΟΝΙΣΜΟΣ -&gt; ΥΠΟΚΙΝ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8862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4114800"/>
            <a:ext cx="198108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Περιφερειακ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Εθνικ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Υπερεθνικ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867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8000"/>
                </a:solidFill>
                <a:latin typeface="Arial Narrow"/>
              </a:rPr>
              <a:t>ΑΡΧΙΚΗ ΤΕΚΜΗΡΙΩΣΗ –&gt; ΣΥΝΤΟΝΙΣΜΟΣ -&gt; ΔΙΕΚΔΙΚ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6553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imes New Roman"/>
              </a:rPr>
              <a:t>Χαρακτηριστικά Επιχειρήσε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Οι επιχειρήσεις των τριών νομών παρουσιάζουν παρόμοια κλαδική κατανομή, ιδιοκτησιακή και νομική μορφή και χαρακτηριστικά (ηλικία επιχειρήσεων και επιχειρηματία, κ.λ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ι κυριότερες διαφορ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χαϊα – Σχετικά μεγαλύτερες επιχειρ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ιτωλ/νία – Μικρότερο επίπεδο εκπαίδευσης και κατάρτισης των επιχειρηματ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λεία – Μικρή εργασιακή εμπειρία των επιχειρηματ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0033"/>
                </a:solidFill>
                <a:latin typeface="Times New Roman"/>
              </a:rPr>
              <a:t>Πρόσβαση σε Δίκτυ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097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4572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990720" y="1371600"/>
          <a:ext cx="7162560" cy="50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16256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417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Καινοτομική Δραστηριότητα των Επιχειρή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66680" y="1371600"/>
          <a:ext cx="7391520" cy="52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39152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8600" y="417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Γέννηση της Καινοτομίας των Επιχειρήσε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α Απαραίτητα Συστατικά για το Ξεκίνημα μιάς Νέας Επιχείρ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600200"/>
          <a:ext cx="8610480" cy="4525920"/>
        </p:xfrm>
        <a:graphic>
          <a:graphicData uri="http://schemas.openxmlformats.org/drawingml/2006/table">
            <a:tbl>
              <a:tblPr/>
              <a:tblGrid>
                <a:gridCol w="5181480"/>
                <a:gridCol w="914400"/>
                <a:gridCol w="1028880"/>
                <a:gridCol w="148572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των Επιχειρηματιών που Θεωρούν τα Ακόλουθα Χαρακτηριστικά Απαραίτητα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λεί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χαϊα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ιτωλ/νί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ια Καλή Ιδέα (Καινοτομία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εγάλο Ίδιο Αρχικό Κεφάλαι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λύ Καλή Γνώση της Δουλειά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λύ Καλές Γνωριμίες στην Αγορ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ολύ Καλή Πρόσβαση στις Τράπεζε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ποστήριξη από την Οικογένειά το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Κυριότερες Ενέργειες Στήριξης Νέων Επιχειρήσεων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0440" y="1447920"/>
          <a:ext cx="82216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447920"/>
                    <a:ext cx="82216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7:19:46Z</dcterms:created>
  <dc:creator>Your User Name</dc:creator>
  <dc:description/>
  <dc:language>en-US</dc:language>
  <cp:lastModifiedBy>Kostas D. Tsekouras</cp:lastModifiedBy>
  <dcterms:modified xsi:type="dcterms:W3CDTF">2004-10-24T07:08:41Z</dcterms:modified>
  <cp:revision>15</cp:revision>
  <dc:subject/>
  <dc:title>Έρευνα Επιχειρήσεων</dc:title>
</cp:coreProperties>
</file>