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3CC4-30D1-47F2-8CB4-1C0785975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988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26920" y="4101480"/>
            <a:ext cx="7988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274E-F5A5-4ACC-A036-F27EBBEF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3898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20120" y="1844280"/>
            <a:ext cx="3898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6920" y="4101480"/>
            <a:ext cx="3898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20120" y="4101480"/>
            <a:ext cx="3898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4EB9-89F5-4B8A-BB19-F8B95C97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25722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28000" y="1844280"/>
            <a:ext cx="25722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229440" y="1844280"/>
            <a:ext cx="25722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26920" y="4101480"/>
            <a:ext cx="25722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28000" y="4101480"/>
            <a:ext cx="25722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229440" y="4101480"/>
            <a:ext cx="25722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E370-9582-4B38-83FD-A900863AE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3146-0DFD-4E58-8A5A-037A1CD4C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826920" y="1844280"/>
            <a:ext cx="79884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FEAF-BC0E-402D-A801-E6B7F33C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9884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8274-06AD-45DF-9809-DD74872D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3898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0120" y="1844280"/>
            <a:ext cx="3898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2BCA-DCFA-4637-95CE-ADAAD94A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AC04-5002-4125-9B7F-F0F358F0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2010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005D-973E-40C8-AC08-27A7AEB5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3898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0120" y="1844280"/>
            <a:ext cx="3898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26920" y="4101480"/>
            <a:ext cx="3898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D980-5121-42FC-B39F-BAEB3BE7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26920" y="1844280"/>
            <a:ext cx="79884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9661-31FD-468B-8AD8-9E12999C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3898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0120" y="1844280"/>
            <a:ext cx="3898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920120" y="4101480"/>
            <a:ext cx="3898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CF1D-6990-4BFD-BC1A-036C8421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3898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0120" y="1844280"/>
            <a:ext cx="3898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26920" y="4101480"/>
            <a:ext cx="7988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3E7A-141D-4B67-B0A6-3056F3D4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988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826920" y="4101480"/>
            <a:ext cx="7988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631D-436C-4D7D-8288-C01BCA08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3898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0120" y="1844280"/>
            <a:ext cx="3898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26920" y="4101480"/>
            <a:ext cx="3898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920120" y="4101480"/>
            <a:ext cx="3898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3197-8C43-414D-AA6A-BF38CE8C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25722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528000" y="1844280"/>
            <a:ext cx="25722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29440" y="1844280"/>
            <a:ext cx="25722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826920" y="4101480"/>
            <a:ext cx="25722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528000" y="4101480"/>
            <a:ext cx="25722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229440" y="4101480"/>
            <a:ext cx="25722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6C70-0F23-496A-A53E-41F3A6C2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9884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C9E1-BA2D-4F2E-A299-86B934AB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3898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0120" y="1844280"/>
            <a:ext cx="3898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2776-C817-4434-A69B-836B8AA6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F716-CDBB-4E2B-B6D4-E347686A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2010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39B3-EF56-4AF1-919A-3E32E688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3898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0120" y="1844280"/>
            <a:ext cx="3898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920" y="4101480"/>
            <a:ext cx="3898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BD17-DF8B-4029-A08D-29974A89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3898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20120" y="1844280"/>
            <a:ext cx="3898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20120" y="4101480"/>
            <a:ext cx="3898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C124-81E7-482A-9AEF-9EF4155B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3898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20120" y="1844280"/>
            <a:ext cx="3898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26920" y="4101480"/>
            <a:ext cx="7988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D90A-3429-4D17-AB3A-8C0A7FDC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29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26920" y="1844280"/>
            <a:ext cx="79884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52000" y="6453360"/>
            <a:ext cx="30243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9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333399"/>
                </a:solidFill>
                <a:latin typeface="Tahoma"/>
              </a:rPr>
              <a:t>Συνέδριο για την απασχόληση στη</a:t>
            </a:r>
            <a:r>
              <a:rPr b="1" lang="en-US" sz="9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l-GR" sz="900" spc="-1" strike="noStrike">
                <a:solidFill>
                  <a:srgbClr val="333399"/>
                </a:solidFill>
                <a:latin typeface="Tahoma"/>
              </a:rPr>
              <a:t>Δυτική Ελλάδα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6516360" y="6453360"/>
            <a:ext cx="187164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9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333399"/>
                </a:solidFill>
                <a:latin typeface="Tahoma"/>
              </a:rPr>
              <a:t>Πάτρα, 25 Οκτωβρίου 20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59640" y="6453000"/>
            <a:ext cx="487440" cy="2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EC33-042D-4BEC-810F-EDEDDB05B357}" type="slidenum">
              <a:rPr b="0" lang="el-G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4500720" y="5229360"/>
            <a:ext cx="2232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" name=""/>
          <p:cNvGraphicFramePr/>
          <p:nvPr/>
        </p:nvGraphicFramePr>
        <p:xfrm>
          <a:off x="3852720" y="6308640"/>
          <a:ext cx="1657440" cy="45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2720" y="6308640"/>
                    <a:ext cx="165744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" name=""/>
          <p:cNvSpPr/>
          <p:nvPr/>
        </p:nvSpPr>
        <p:spPr>
          <a:xfrm>
            <a:off x="395280" y="333360"/>
            <a:ext cx="25210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6227640" y="476280"/>
            <a:ext cx="2521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" descr=""/>
          <p:cNvPicPr/>
          <p:nvPr/>
        </p:nvPicPr>
        <p:blipFill>
          <a:blip r:embed="rId4"/>
          <a:stretch/>
        </p:blipFill>
        <p:spPr>
          <a:xfrm>
            <a:off x="324000" y="189000"/>
            <a:ext cx="734760" cy="485640"/>
          </a:xfrm>
          <a:prstGeom prst="rect">
            <a:avLst/>
          </a:prstGeom>
          <a:ln w="0">
            <a:noFill/>
          </a:ln>
        </p:spPr>
      </p:pic>
      <p:pic>
        <p:nvPicPr>
          <p:cNvPr id="18" name="" descr=""/>
          <p:cNvPicPr/>
          <p:nvPr/>
        </p:nvPicPr>
        <p:blipFill>
          <a:blip r:embed="rId5"/>
          <a:stretch/>
        </p:blipFill>
        <p:spPr>
          <a:xfrm>
            <a:off x="7885080" y="228600"/>
            <a:ext cx="873000" cy="482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6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7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60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96BD-FF42-42A1-AB71-48FB7B466E2B}" type="slidenum">
              <a:rPr b="0" lang="el-G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33399"/>
                </a:solidFill>
                <a:latin typeface="Tahoma"/>
              </a:rPr>
              <a:t>ΟΛΟΚΛΗΡΩΜΕΝΗ ΣΤΡΑΤΗΓΙΚΗ ΓΙΑ ΤΗΝ ΠΡΟΩΘΗΣΗ ΤΗΣ ΑΠΑΣΧΟΛΗΣΗΣ ΣΤΗΝ ΠΕΡΙΦΕΡΕΙΑ ΔΥΤΙΚΗΣ ΕΛΛΑΔΑΣ</a:t>
            </a:r>
            <a:endParaRPr b="1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920" y="2060280"/>
            <a:ext cx="7988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ΠΑΚΕΤΟ ΕΡΓΑΣΙΑΣ: 8.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ORK PACKAGE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: 8.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000000"/>
                </a:solidFill>
                <a:latin typeface="Tahoma"/>
              </a:rPr>
              <a:t>ΟΔΗΓΟΣ 1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l-GR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i="1" lang="el-GR" sz="1800" spc="-1" strike="noStrike">
                <a:solidFill>
                  <a:srgbClr val="000000"/>
                </a:solidFill>
                <a:latin typeface="Tahoma"/>
              </a:rPr>
              <a:t>Οδηγός για το σχεδιασμό και την παρακολούθηση της εφαρμογής μιας ολοκληρωμένης Στρατηγικής για την Απασχόληση στην Περιφέρεια Δυτικής Ελλάδας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000000"/>
                </a:solidFill>
                <a:latin typeface="Tahoma"/>
              </a:rPr>
              <a:t>ΟΔΗΓΟΣ 2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l-GR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i="1" lang="el-GR" sz="1800" spc="-1" strike="noStrike">
                <a:solidFill>
                  <a:srgbClr val="000000"/>
                </a:solidFill>
                <a:latin typeface="Tahoma"/>
              </a:rPr>
              <a:t>Οδηγός σχεδιασμού και υλοποίησης Ολοκληρωμένων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l-GR" sz="1800" spc="-1" strike="noStrike">
                <a:solidFill>
                  <a:srgbClr val="000000"/>
                </a:solidFill>
                <a:latin typeface="Tahoma"/>
              </a:rPr>
              <a:t>Πολιτικών Απασχόλησης σε τοπικό επίπεδο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108000" y="1096920"/>
            <a:ext cx="8927640" cy="5095800"/>
            <a:chOff x="108000" y="1096920"/>
            <a:chExt cx="8927640" cy="5095800"/>
          </a:xfrm>
        </p:grpSpPr>
        <p:sp>
          <p:nvSpPr>
            <p:cNvPr id="125" name=""/>
            <p:cNvSpPr/>
            <p:nvPr/>
          </p:nvSpPr>
          <p:spPr>
            <a:xfrm>
              <a:off x="2278800" y="1096920"/>
              <a:ext cx="4462200" cy="462240"/>
            </a:xfrm>
            <a:prstGeom prst="flowChartProcess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Arial"/>
                </a:rPr>
                <a:t>ΟΛΟΚΛΗΡΩΜΕΝΗ ΣΤΡΑΤΗΓΙΚΗ ΑΠΑΣΧΟΛΗΣΗ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Arial"/>
                </a:rPr>
                <a:t>ΓΙΑ ΤΗΝ ΠΕΡΙΦΕΡΕΙΑ ΔΥΤΙΚΗΣ ΕΛΛΑΔΑ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7520" y="2022840"/>
              <a:ext cx="1447920" cy="579600"/>
            </a:xfrm>
            <a:prstGeom prst="flowChart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Περιφερειακό σκέλος εθνικών πολιτικών</a:t>
              </a:r>
              <a:r>
                <a:rPr b="1" lang="el-G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απασχόληση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796400" y="2022840"/>
              <a:ext cx="1326960" cy="579600"/>
            </a:xfrm>
            <a:prstGeom prst="flowChart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Παρακολούθηση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44320" y="2022840"/>
              <a:ext cx="1326960" cy="579600"/>
            </a:xfrm>
            <a:prstGeom prst="flowChart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Αξιολόγηση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92240" y="2022840"/>
              <a:ext cx="1325520" cy="579600"/>
            </a:xfrm>
            <a:prstGeom prst="flowChart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Δραστηριότητες ενημέρωσης + ευαισθητοποίηση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9800" y="2022840"/>
              <a:ext cx="1326960" cy="579600"/>
            </a:xfrm>
            <a:prstGeom prst="flowChart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Παρατηρητήριο Απασχόληση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Δυτικής Ελλάδα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86640" y="2022840"/>
              <a:ext cx="1449000" cy="579600"/>
            </a:xfrm>
            <a:prstGeom prst="flowChart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Γραφείο Υποστήριξης Τοπικών Πολιτικών  Απασχόληση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8000" y="3065040"/>
              <a:ext cx="361440" cy="3011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Arial"/>
                </a:rPr>
                <a:t>Χ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Arial"/>
                </a:rPr>
                <a:t>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Arial"/>
                </a:rPr>
                <a:t>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Arial"/>
                </a:rPr>
                <a:t>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Arial"/>
                </a:rPr>
                <a:t>Ο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Arial"/>
                </a:rPr>
                <a:t>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Arial"/>
                </a:rPr>
                <a:t>Ο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Arial"/>
                </a:rPr>
                <a:t>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Arial"/>
                </a:rPr>
                <a:t>Η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9440" y="4802760"/>
              <a:ext cx="2171160" cy="34740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000" spc="-1" strike="noStrike">
                  <a:solidFill>
                    <a:srgbClr val="000000"/>
                  </a:solidFill>
                  <a:latin typeface="Arial"/>
                </a:rPr>
                <a:t>Άρθρο 6 /ΕΚΤ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9440" y="4455000"/>
              <a:ext cx="2171160" cy="23292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000" spc="-1" strike="noStrike">
                  <a:solidFill>
                    <a:srgbClr val="000000"/>
                  </a:solidFill>
                  <a:latin typeface="Arial"/>
                </a:rPr>
                <a:t>Κ.Π INTERRE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69440" y="5266440"/>
              <a:ext cx="2171160" cy="46368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000" spc="-1" strike="noStrike">
                  <a:solidFill>
                    <a:srgbClr val="000000"/>
                  </a:solidFill>
                  <a:latin typeface="Arial"/>
                </a:rPr>
                <a:t>Εθνικοί Πόρο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000" spc="-1" strike="noStrike">
                  <a:solidFill>
                    <a:srgbClr val="000000"/>
                  </a:solidFill>
                  <a:latin typeface="Arial"/>
                </a:rPr>
                <a:t>Υπ. Εσωτερικών, ΟΤΑ, …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9440" y="3065040"/>
              <a:ext cx="2171160" cy="23040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000" spc="-1" strike="noStrike">
                  <a:solidFill>
                    <a:srgbClr val="000000"/>
                  </a:solidFill>
                  <a:latin typeface="Arial"/>
                </a:rPr>
                <a:t>ΤΟΜΕΑΚΟ ΚΠ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9440" y="3412800"/>
              <a:ext cx="2171160" cy="23184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000" spc="-1" strike="noStrike">
                  <a:solidFill>
                    <a:srgbClr val="000000"/>
                  </a:solidFill>
                  <a:latin typeface="Arial"/>
                </a:rPr>
                <a:t>ΠΕΠ ΔΥΤ. ΕΛΛΑΔΑ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9440" y="3760920"/>
              <a:ext cx="2171160" cy="23184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000" spc="-1" strike="noStrike">
                  <a:solidFill>
                    <a:srgbClr val="000000"/>
                  </a:solidFill>
                  <a:latin typeface="Arial"/>
                </a:rPr>
                <a:t>Κ.Π. EQU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9440" y="4108320"/>
              <a:ext cx="2171160" cy="22932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000" spc="-1" strike="noStrike">
                  <a:solidFill>
                    <a:srgbClr val="000000"/>
                  </a:solidFill>
                  <a:latin typeface="Arial"/>
                </a:rPr>
                <a:t>Κ.Π LEA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69440" y="5844960"/>
              <a:ext cx="2171160" cy="23292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000" spc="-1" strike="noStrike">
                  <a:solidFill>
                    <a:srgbClr val="000000"/>
                  </a:solidFill>
                  <a:latin typeface="Arial"/>
                </a:rPr>
                <a:t>ΙΔΙΩΤΙΚΟΙ ΠΟΡΟ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" name=""/>
            <p:cNvCxnSpPr/>
            <p:nvPr/>
          </p:nvCxnSpPr>
          <p:spPr>
            <a:xfrm>
              <a:off x="4330440" y="3296520"/>
              <a:ext cx="216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2" name=""/>
            <p:cNvSpPr/>
            <p:nvPr/>
          </p:nvSpPr>
          <p:spPr>
            <a:xfrm>
              <a:off x="4450320" y="3760920"/>
              <a:ext cx="964800" cy="462240"/>
            </a:xfrm>
            <a:prstGeom prst="flowChartProcess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ΤΟΠΙΚΗ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36440" y="3760920"/>
              <a:ext cx="965160" cy="462240"/>
            </a:xfrm>
            <a:prstGeom prst="flowChartProcess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ΤΟΠΙΚΗ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04240" y="3760920"/>
              <a:ext cx="964800" cy="463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ΤΟΠΙΚΗ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50320" y="4339080"/>
              <a:ext cx="964800" cy="463680"/>
            </a:xfrm>
            <a:prstGeom prst="flowChartProcess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ΚΛΑΔΙΚΗ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50320" y="4918680"/>
              <a:ext cx="964800" cy="579600"/>
            </a:xfrm>
            <a:prstGeom prst="flowChartProcess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ΟΜΑΔΑ ΣΤΟΧΟΥ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50320" y="5614200"/>
              <a:ext cx="964800" cy="578520"/>
            </a:xfrm>
            <a:prstGeom prst="flowChartProcess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ΑΞΟΝΑ ΠΟΛΙΤΙΚΗ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36440" y="4339080"/>
              <a:ext cx="965160" cy="463680"/>
            </a:xfrm>
            <a:prstGeom prst="flowChartProcess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ΚΛΑΔΙΚΗ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36440" y="4918680"/>
              <a:ext cx="965160" cy="579600"/>
            </a:xfrm>
            <a:prstGeom prst="flowChartProcess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ΟΜΑΔΑ ΣΤΟΧΟΥ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36440" y="5614200"/>
              <a:ext cx="965160" cy="578520"/>
            </a:xfrm>
            <a:prstGeom prst="flowChartProcess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ΑΞΟΝΑ ΠΟΛΙΤΙΚΗΣ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04240" y="4339080"/>
              <a:ext cx="964800" cy="463680"/>
            </a:xfrm>
            <a:prstGeom prst="flowChartProcess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ΚΛΑΔΙΚΗ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104240" y="4918680"/>
              <a:ext cx="964800" cy="579600"/>
            </a:xfrm>
            <a:prstGeom prst="flowChartProcess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ΟΜΑΔΑ ΣΤΟΧΟΥ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04240" y="5614200"/>
              <a:ext cx="964800" cy="578520"/>
            </a:xfrm>
            <a:prstGeom prst="flowChartProcess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ΑΞΟΝΑ ΠΟΛΙΤΙΚΗ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09480" y="3180960"/>
              <a:ext cx="3980880" cy="34776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000" spc="-1" strike="noStrike">
                  <a:solidFill>
                    <a:srgbClr val="000000"/>
                  </a:solidFill>
                  <a:latin typeface="Arial"/>
                </a:rPr>
                <a:t>ΠΟΛΙΤΙΚΕΣ ΤΟΠΙΚΗΣ / ΠΕΡΙΟΡΙΣΜΕΝΗΣ ΕΜΒΕΛΕΙΑ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5" name=""/>
            <p:cNvCxnSpPr>
              <a:stCxn id="127" idx="2"/>
              <a:endCxn id="154" idx="0"/>
            </p:cNvCxnSpPr>
            <p:nvPr/>
          </p:nvCxnSpPr>
          <p:spPr>
            <a:xfrm>
              <a:off x="2459160" y="2615040"/>
              <a:ext cx="3740760" cy="550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6" name=""/>
            <p:cNvCxnSpPr>
              <a:stCxn id="128" idx="2"/>
              <a:endCxn id="154" idx="0"/>
            </p:cNvCxnSpPr>
            <p:nvPr/>
          </p:nvCxnSpPr>
          <p:spPr>
            <a:xfrm>
              <a:off x="3907440" y="2615040"/>
              <a:ext cx="2292840" cy="550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7" name=""/>
            <p:cNvCxnSpPr>
              <a:stCxn id="129" idx="2"/>
              <a:endCxn id="154" idx="0"/>
            </p:cNvCxnSpPr>
            <p:nvPr/>
          </p:nvCxnSpPr>
          <p:spPr>
            <a:xfrm>
              <a:off x="5355360" y="2615040"/>
              <a:ext cx="844920" cy="550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8" name=""/>
            <p:cNvCxnSpPr>
              <a:stCxn id="130" idx="2"/>
              <a:endCxn id="154" idx="0"/>
            </p:cNvCxnSpPr>
            <p:nvPr/>
          </p:nvCxnSpPr>
          <p:spPr>
            <a:xfrm flipH="1">
              <a:off x="6199920" y="2615040"/>
              <a:ext cx="603720" cy="550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31" idx="2"/>
              <a:endCxn id="154" idx="0"/>
            </p:cNvCxnSpPr>
            <p:nvPr/>
          </p:nvCxnSpPr>
          <p:spPr>
            <a:xfrm flipH="1">
              <a:off x="6199560" y="2615040"/>
              <a:ext cx="2111760" cy="550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0" name=""/>
            <p:cNvSpPr/>
            <p:nvPr/>
          </p:nvSpPr>
          <p:spPr>
            <a:xfrm>
              <a:off x="3123360" y="4455000"/>
              <a:ext cx="724320" cy="231840"/>
            </a:xfrm>
            <a:prstGeom prst="rightArrow">
              <a:avLst>
                <a:gd name="adj1" fmla="val 50000"/>
                <a:gd name="adj2" fmla="val 78106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23360" y="4918680"/>
              <a:ext cx="724320" cy="231840"/>
            </a:xfrm>
            <a:prstGeom prst="rightArrow">
              <a:avLst>
                <a:gd name="adj1" fmla="val 50000"/>
                <a:gd name="adj2" fmla="val 78106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23360" y="3992760"/>
              <a:ext cx="724320" cy="231840"/>
            </a:xfrm>
            <a:prstGeom prst="rightArrow">
              <a:avLst>
                <a:gd name="adj1" fmla="val 50000"/>
                <a:gd name="adj2" fmla="val 78106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734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33399"/>
                </a:solidFill>
                <a:latin typeface="Tahoma"/>
              </a:rPr>
              <a:t>ΟΔΗΓΟΣ ΓΙΑ ΤΟ ΣΧΕΔΙΑΣΜΟ ΚΑΙ ΤΗΝ ΠΑΡΑΚΟΛΟΥΘΗΣΗ </a:t>
            </a:r>
            <a:br>
              <a:rPr sz="1800"/>
            </a:br>
            <a:r>
              <a:rPr b="1" lang="el-GR" sz="1800" spc="-1" strike="noStrike">
                <a:solidFill>
                  <a:srgbClr val="333399"/>
                </a:solidFill>
                <a:latin typeface="Tahoma"/>
              </a:rPr>
              <a:t>ΤΗΣ ΕΦΑΡΜΟΓΗΣ ΜΙΑΣ ΟΛΟΚΛΗΡΩΜΕΝΗΣ ΣΤΡΑΤΗΓΙΚΗΣ </a:t>
            </a:r>
            <a:br>
              <a:rPr sz="1800"/>
            </a:br>
            <a:r>
              <a:rPr b="1" lang="el-GR" sz="1800" spc="-1" strike="noStrike">
                <a:solidFill>
                  <a:srgbClr val="333399"/>
                </a:solidFill>
                <a:latin typeface="Tahoma"/>
              </a:rPr>
              <a:t>ΓΙΑ ΤΗΝ ΑΠΑΣΧΟΛΗΣΗ ΣΤΗΝ ΠΕΡΙΦΕΡΕΙΑ ΔΥΤΙΚΗΣ ΕΛΛΑΔΑΣ</a:t>
            </a:r>
            <a:endParaRPr b="1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920" y="3212640"/>
            <a:ext cx="39182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Γενικοί στόχοι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Άξονες πολιτικής και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προτεραιότητές του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Κατηγορίες πολιτικών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Ειδικοί στόχοι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Εξειδίκευση σε επίπεδο μέτρων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3212640"/>
            <a:ext cx="39178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Αναμενόμενα αποτελέσματα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Συνοχή με άλλες πολιτικέ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Σύστημα διοίκησης – παρακολούθησης – αξιολόγηση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Χρονοδιάγραμμα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1042920" y="1989000"/>
            <a:ext cx="720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ΣΤΟΙΧΕΙΑ ΠΕΡΙΕΧΟΜΕΝΟΥ ΜΙΑΣ ΟΛΟΚΛΗΡΩΜΕΝΗΣ ΠΕΡΙΦΕΡΕΙΑΚΗΣ ΣΤΡΑΤΗΓΙΚΗΣ ΑΠΑΣΧΟΛΗΣΗΣ ΓΙΑ ΤΗΝ ΠΕΡΙΦΕΡΕΙΑ ΔΥΤΙΚΗΣ ΕΛΛΑΔΑ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416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33399"/>
                </a:solidFill>
                <a:latin typeface="Tahoma"/>
              </a:rPr>
              <a:t>ΟΔΗΓΟΣ ΓΙΑ ΤΟ ΣΧΕΔΙΑΣΜΟ ΚΑΙ ΤΗΝ ΠΑΡΑΚΟΛΟΥΘΗΣΗ </a:t>
            </a:r>
            <a:br>
              <a:rPr sz="1800"/>
            </a:br>
            <a:r>
              <a:rPr b="1" lang="el-GR" sz="1800" spc="-1" strike="noStrike">
                <a:solidFill>
                  <a:srgbClr val="333399"/>
                </a:solidFill>
                <a:latin typeface="Tahoma"/>
              </a:rPr>
              <a:t>ΤΗΣ ΕΦΑΡΜΟΓΗΣ ΜΙΑΣ ΟΛΟΚΛΗΡΩΜΕΝΗΣ ΣΤΡΑΤΗΓΙΚΗΣ </a:t>
            </a:r>
            <a:br>
              <a:rPr sz="1800"/>
            </a:br>
            <a:r>
              <a:rPr b="1" lang="el-GR" sz="1800" spc="-1" strike="noStrike">
                <a:solidFill>
                  <a:srgbClr val="333399"/>
                </a:solidFill>
                <a:latin typeface="Tahoma"/>
              </a:rPr>
              <a:t>ΓΙΑ ΤΗΝ ΑΠΑΣΧΟΛΗΣΗ ΣΤΗΝ ΠΕΡΙΦΕΡΕΙΑ ΔΥΤΙΚΗΣ ΕΛΛΑΔΑΣ</a:t>
            </a:r>
            <a:endParaRPr b="1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9884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826920" y="1844640"/>
            <a:ext cx="79884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ΕΝΔΕΙΚΤΙΚΗ ΑΝΑΦΟΡΑ ΤΩΝ ΚΥΡΙΟΤΕΡΩΝ ΚΑΤΗΓΟΡΙΩΝ ΔΡΑΣΕΩΝ  ΣΕ ΕΠΙΠΕΔΟ ΜΕΤΡ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Επαγγελματικός προσανατολισμό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Προκατάρτισ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Αρχική και συνεχιζόμενη επαγγελματική κατάρτισ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Απόκτηση βασικών δεξιοτήτ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Παροχή συμβουλευτικών και υποστηρικτικών υπηρεσιώ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Ενδυνάμωση και ψυχολογική στήριξ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Ατομική συμβουλευτική απασχόληση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Προώθηση στην απασχόλησ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Εκπαίδευση στελεχών υπηρεσιών απασχόλησης και εκπαιδευτώ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42920" y="691920"/>
            <a:ext cx="7416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33399"/>
                </a:solidFill>
                <a:latin typeface="Tahoma"/>
              </a:rPr>
              <a:t>ΟΔΗΓΟΣ ΓΙΑ ΤΟ ΣΧΕΔΙΑΣΜΟ ΚΑΙ ΤΗΝ ΠΑΡΑΚΟΛΟΥΘΗΣΗ </a:t>
            </a:r>
            <a:br>
              <a:rPr sz="1800"/>
            </a:br>
            <a:r>
              <a:rPr b="1" lang="el-GR" sz="1800" spc="-1" strike="noStrike">
                <a:solidFill>
                  <a:srgbClr val="333399"/>
                </a:solidFill>
                <a:latin typeface="Tahoma"/>
              </a:rPr>
              <a:t>ΤΗΣ ΕΦΑΡΜΟΓΗΣ ΜΙΑΣ ΟΛΟΚΛΗΡΩΜΕΝΗΣ ΣΤΡΑΤΗΓΙΚΗΣ </a:t>
            </a:r>
            <a:br>
              <a:rPr sz="1800"/>
            </a:br>
            <a:r>
              <a:rPr b="1" lang="el-GR" sz="1800" spc="-1" strike="noStrike">
                <a:solidFill>
                  <a:srgbClr val="333399"/>
                </a:solidFill>
                <a:latin typeface="Tahoma"/>
              </a:rPr>
              <a:t>ΓΙΑ ΤΗΝ ΑΠΑΣΧΟΛΗΣΗ ΣΤΗΝ ΠΕΡΙΦΕΡΕΙΑ ΔΥΤΙΚΗΣ ΕΛΛΑΔΑΣ</a:t>
            </a:r>
            <a:endParaRPr b="1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9884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826920" y="1844640"/>
            <a:ext cx="79884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ΕΝΔΕΙΚΤΙΚΗ ΑΝΑΦΟΡΑ ΤΩΝ ΚΥΡΙΟΤΕΡΩΝ ΚΑΤΗΓΟΡΙΩΝ ΔΡΑΣΕΩΝ  ΣΕ ΕΠΙΠΕΔΟ ΜΕΤΡ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Διεξαγωγή ερευνών και μελετών σε τοπικό επίπεδ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Δράσεις ενημέρωσης, ευαισθητοποίηση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Δημιουργία δικτύων και προώθηση του κοινωνικού διαλόγου για τη δημιουργία νέων θέσεων εργασίας σε τοπικό επίπεδ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Προώθηση της καινοτομίας και της επιχειρηματικότητας μικρής κλίμακα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Χρήση εργαλείων, όπως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aching, mentoring 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υπέρ της δημιουργίας απασχόλησης σε τοπικό επίπεδ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Προοπτική εφαρμογής καλών πρακτικώ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Ειδικές δράσεις υπέρ της απασχόλησης ευπαθών κοινωνικών ομάδων κ.λ.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Δημιουργία και λειτουργία δομώ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Δημιουργία και λειτουργία υποδομών (κατασκευέ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16000" y="692280"/>
            <a:ext cx="7416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33399"/>
                </a:solidFill>
                <a:latin typeface="Tahoma"/>
              </a:rPr>
              <a:t>ΟΔΗΓΟΣ ΓΙΑ ΤΟ ΣΧΕΔΙΑΣΜΟ ΚΑΙ ΤΗΝ ΠΑΡΑΚΟΛΟΥΘΗΣΗ </a:t>
            </a:r>
            <a:br>
              <a:rPr sz="1800"/>
            </a:br>
            <a:r>
              <a:rPr b="1" lang="el-GR" sz="1800" spc="-1" strike="noStrike">
                <a:solidFill>
                  <a:srgbClr val="333399"/>
                </a:solidFill>
                <a:latin typeface="Tahoma"/>
              </a:rPr>
              <a:t>ΤΗΣ ΕΦΑΡΜΟΓΗΣ ΜΙΑΣ ΟΛΟΚΛΗΡΩΜΕΝΗΣ ΣΤΡΑΤΗΓΙΚΗΣ </a:t>
            </a:r>
            <a:br>
              <a:rPr sz="1800"/>
            </a:br>
            <a:r>
              <a:rPr b="1" lang="el-GR" sz="1800" spc="-1" strike="noStrike">
                <a:solidFill>
                  <a:srgbClr val="333399"/>
                </a:solidFill>
                <a:latin typeface="Tahoma"/>
              </a:rPr>
              <a:t>ΓΙΑ ΤΗΝ ΑΠΑΣΧΟΛΗΣΗ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l-GR" sz="1800" spc="-1" strike="noStrike">
                <a:solidFill>
                  <a:srgbClr val="333399"/>
                </a:solidFill>
                <a:latin typeface="Tahoma"/>
              </a:rPr>
              <a:t>ΣΤΗΝ ΠΕΡΙΦΕΡΕΙΑ ΔΥΤΙΚΗΣ ΕΛΛΑΔΑΣ</a:t>
            </a:r>
            <a:endParaRPr b="1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9884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826920" y="2133720"/>
            <a:ext cx="798840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Tahoma"/>
              </a:rPr>
              <a:t>ΧΡΗΜΑΤΟΔΟΤΗΣ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Tahoma"/>
              </a:rPr>
              <a:t>ΔΙΑΔΙΚΑΣΙΑ ΥΙΟΘΕΤΗΣΗΣ, ΑΝΑΘΕΩΡΗΣΗΣ, ΕΠΙΚΑΙΡΟΠΟΙΗΣΗ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Tahoma"/>
              </a:rPr>
              <a:t>ΠΑΡΑΚΟΛΟΥΘΗΣΗ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KAI</a:t>
            </a:r>
            <a:r>
              <a:rPr b="1" lang="el-GR" sz="1600" spc="-1" strike="noStrike">
                <a:solidFill>
                  <a:srgbClr val="000000"/>
                </a:solidFill>
                <a:latin typeface="Tahoma"/>
              </a:rPr>
              <a:t> ΑΞΙΟΛΟΓΗΣΗ ΤΗΣ ΥΛΟΠΟΙΗΣΗ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Tahoma"/>
              </a:rPr>
              <a:t>ΕΝΗΜΕΡΩΣΗ/ΕΥΑΙΣΘΗΤΟΠΟΙΗΣΗ/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INSTREA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99640" y="765000"/>
            <a:ext cx="7417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33399"/>
                </a:solidFill>
                <a:latin typeface="Tahoma"/>
              </a:rPr>
              <a:t>ΟΔΗΓΟΣ ΓΙΑ ΤΟ ΣΧΕΔΙΑΣΜΟ ΚΑΙ ΤΗΝ ΠΑΡΑΚΟΛΟΥΘΗΣΗ </a:t>
            </a:r>
            <a:br>
              <a:rPr sz="1800"/>
            </a:br>
            <a:r>
              <a:rPr b="1" lang="el-GR" sz="1800" spc="-1" strike="noStrike">
                <a:solidFill>
                  <a:srgbClr val="333399"/>
                </a:solidFill>
                <a:latin typeface="Tahoma"/>
              </a:rPr>
              <a:t>ΤΗΣ ΕΦΑΡΜΟΓΗΣ ΜΙΑΣ ΟΛΟΚΛΗΡΩΜΕΝΗΣ ΣΤΡΑΤΗΓΙΚΗΣ </a:t>
            </a:r>
            <a:br>
              <a:rPr sz="1800"/>
            </a:br>
            <a:r>
              <a:rPr b="1" lang="el-GR" sz="1800" spc="-1" strike="noStrike">
                <a:solidFill>
                  <a:srgbClr val="333399"/>
                </a:solidFill>
                <a:latin typeface="Tahoma"/>
              </a:rPr>
              <a:t>ΓΙΑ ΤΗΝ ΑΠΑΣΧΟΛΗΣΗ ΣΤΗΝ ΠΕΡΙΦΕΡΕΙΑ ΔΥΤΙΚΗΣ ΕΛΛΑΔΑΣ</a:t>
            </a:r>
            <a:endParaRPr b="1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920" y="2276640"/>
            <a:ext cx="798840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Αναγκαιότητα και οφέλη από την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Ολοκληρωμένη Στρατηγική Απασχόλησης για τη Δυτική Ελλάδα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Ο σχεδιασμός και η εφαρμογή ολοκληρωμένων στρατηγικών απασχόλησης, σε περιφερειακό επίπεδο, αποτελεί καινοτομία για το σύνολο της χώρας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ΟΔΗΓΟΣ: ένα χρήσιμο υποστηρικτικό εργαλείο για φορείς και στελέχη που ασχολούνται ή επιθυμούν να συμβάλλουν στη δημιουργία απασχόλησης και τη καταπολέμηση της ανεργίας στην Περιφέρεια Δυτικής Ελλάδας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764640"/>
            <a:ext cx="741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33399"/>
                </a:solidFill>
                <a:latin typeface="Tahoma"/>
              </a:rPr>
              <a:t>ΟΔΗΓΟΣ ΓΙΑ ΤΟ ΣΧΕΔΙΑΣΜΟ ΚΑΙ ΤΗΝ ΠΑΡΑΚΟΛΟΥΘΗΣΗ </a:t>
            </a:r>
            <a:br>
              <a:rPr sz="1800"/>
            </a:br>
            <a:r>
              <a:rPr b="1" lang="el-GR" sz="1800" spc="-1" strike="noStrike">
                <a:solidFill>
                  <a:srgbClr val="333399"/>
                </a:solidFill>
                <a:latin typeface="Tahoma"/>
              </a:rPr>
              <a:t>ΤΗΣ ΕΦΑΡΜΟΓΗΣ ΜΙΑΣ ΟΛΟΚΛΗΡΩΜΕΝΗΣ ΣΤΡΑΤΗΓΙΚΗΣ </a:t>
            </a:r>
            <a:br>
              <a:rPr sz="1800"/>
            </a:br>
            <a:r>
              <a:rPr b="1" lang="el-GR" sz="1800" spc="-1" strike="noStrike">
                <a:solidFill>
                  <a:srgbClr val="333399"/>
                </a:solidFill>
                <a:latin typeface="Tahoma"/>
              </a:rPr>
              <a:t>ΓΙΑ ΤΗΝ ΑΠΑΣΧΟΛΗΣΗ ΣΤΗΝ ΠΕΡΙΦΕΡΕΙΑ ΔΥΤΙΚΗΣ ΕΛΛΑΔΑΣ</a:t>
            </a:r>
            <a:endParaRPr b="1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988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ΓΕΝΙΚΑ ΧΑΡΑΚΤΗΡΙΣΤΙΚΑ ΤΗΣ ΑΠΑΣΧΟΛΗΣΗΣ ΣΤΗΝ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ΠΕΡΙΦΕΡΕΙΑ ΔΥΤΙΚΗΣ ΕΛΛΑΔΑ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Συγκριτικά πλεονεκτήματα, αδύνατα σημεία, ευκαιρίες, προκλήσει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για τη Δυτική Ελλάδ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Χαρακτηριστικά της ζήτησης στην αγορά εργασία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Χαρακτηριστικά της προσφοράς στην αγορά εργασία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343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33399"/>
                </a:solidFill>
                <a:latin typeface="Tahoma"/>
              </a:rPr>
              <a:t>ΟΔΗΓΟΣ ΓΙΑ ΤΟ ΣΧΕΔΙΑΣΜΟ ΚΑΙ ΤΗΝ ΠΑΡΑΚΟΛΟΥΘΗΣΗ </a:t>
            </a:r>
            <a:br>
              <a:rPr sz="1800"/>
            </a:br>
            <a:r>
              <a:rPr b="1" lang="el-GR" sz="1800" spc="-1" strike="noStrike">
                <a:solidFill>
                  <a:srgbClr val="333399"/>
                </a:solidFill>
                <a:latin typeface="Tahoma"/>
              </a:rPr>
              <a:t>ΤΗΣ ΕΦΑΡΜΟΓΗΣ ΜΙΑΣ ΟΛΟΚΛΗΡΩΜΕΝΗΣ ΣΤΡΑΤΗΓΙΚΗΣ </a:t>
            </a:r>
            <a:br>
              <a:rPr sz="1800"/>
            </a:br>
            <a:r>
              <a:rPr b="1" lang="el-GR" sz="1800" spc="-1" strike="noStrike">
                <a:solidFill>
                  <a:srgbClr val="333399"/>
                </a:solidFill>
                <a:latin typeface="Tahoma"/>
              </a:rPr>
              <a:t>ΓΙΑ ΤΗΝ ΑΠΑΣΧΟΛΗΣΗ ΣΤΗΝ ΠΕΡΙΦΕΡΕΙΑ ΔΥΤΙΚΗΣ ΕΛΛΑΔΑΣ</a:t>
            </a:r>
            <a:endParaRPr b="1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6920" y="2205000"/>
            <a:ext cx="79884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Βασικές ανάγκες κατάρτισης του ανθρώπινου δυναμικού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Επιχειρηματικότητα (προοπτική, δυνατότητες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Απασχόληση γυναικών – παράγοντες αποκλεισμού του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από την αγορά εργασία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Απασχόληση νέων γυναικών και ανδρώ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343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33399"/>
                </a:solidFill>
                <a:latin typeface="Tahoma"/>
              </a:rPr>
              <a:t>ΟΔΗΓΟΣ ΓΙΑ ΤΟ ΣΧΕΔΙΑΣΜΟ ΚΑΙ ΤΗΝ ΠΑΡΑΚΟΛΟΥΘΗΣΗ </a:t>
            </a:r>
            <a:br>
              <a:rPr sz="1800"/>
            </a:br>
            <a:r>
              <a:rPr b="1" lang="el-GR" sz="1800" spc="-1" strike="noStrike">
                <a:solidFill>
                  <a:srgbClr val="333399"/>
                </a:solidFill>
                <a:latin typeface="Tahoma"/>
              </a:rPr>
              <a:t>ΤΗΣ ΕΦΑΡΜΟΓΗΣ ΜΙΑΣ ΟΛΟΚΛΗΡΩΜΕΝΗΣ ΣΤΡΑΤΗΓΙΚΗΣ </a:t>
            </a:r>
            <a:br>
              <a:rPr sz="1800"/>
            </a:br>
            <a:r>
              <a:rPr b="1" lang="el-GR" sz="1800" spc="-1" strike="noStrike">
                <a:solidFill>
                  <a:srgbClr val="333399"/>
                </a:solidFill>
                <a:latin typeface="Tahoma"/>
              </a:rPr>
              <a:t>ΓΙΑ ΤΗΝ ΑΠΑΣΧΟΛΗΣΗ ΣΤΗΝ ΠΕΡΙΦΕΡΕΙΑ ΔΥΤΙΚΗΣ ΕΛΛΑΔΑΣ</a:t>
            </a:r>
            <a:endParaRPr b="1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988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ΕΥΡΩΠΑΪΚΟ ΚΑΙ ΕΘΝΙΚΟ ΠΛΑΙΣΙΟ ΠΟΛΙΤΙΚΩΝ ΑΠΑΣΧΟΛΗΣΗ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Ευρωπαϊκή Στρατηγική για την Απασχόληση (ΕΣΑ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Εθνικά Σχέδια Δράσης για την Απασχόληση (ΕΣΔΑ) και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την Ενσωμάτωση (ΕΣΔΕΝ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Τρέχουσες πολιτικές απασχόλησης του Υπουργείου Απασχόληση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και του ΟΑΕ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920" y="764640"/>
            <a:ext cx="734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33399"/>
                </a:solidFill>
                <a:latin typeface="Tahoma"/>
              </a:rPr>
              <a:t>ΟΔΗΓΟΣ ΓΙΑ ΤΟ ΣΧΕΔΙΑΣΜΟ ΚΑΙ ΤΗΝ ΠΑΡΑΚΟΛΟΥΘΗΣΗ </a:t>
            </a:r>
            <a:br>
              <a:rPr sz="1800"/>
            </a:br>
            <a:r>
              <a:rPr b="1" lang="el-GR" sz="1800" spc="-1" strike="noStrike">
                <a:solidFill>
                  <a:srgbClr val="333399"/>
                </a:solidFill>
                <a:latin typeface="Tahoma"/>
              </a:rPr>
              <a:t>ΤΗΣ ΕΦΑΡΜΟΓΗΣ ΜΙΑΣ ΟΛΟΚΛΗΡΩΜΕΝΗΣ ΣΤΡΑΤΗΓΙΚΗΣ </a:t>
            </a:r>
            <a:br>
              <a:rPr sz="1800"/>
            </a:br>
            <a:r>
              <a:rPr b="1" lang="el-GR" sz="1800" spc="-1" strike="noStrike">
                <a:solidFill>
                  <a:srgbClr val="333399"/>
                </a:solidFill>
                <a:latin typeface="Tahoma"/>
              </a:rPr>
              <a:t>ΓΙΑ ΤΗΝ ΑΠΑΣΧΟΛΗΣΗ ΣΤΗΝ ΠΕΡΙΦΕΡΕΙΑ ΔΥΤΙΚΗΣ ΕΛΛΑΔΑΣ</a:t>
            </a:r>
            <a:endParaRPr b="1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9884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ΤΡΕΧΟΥΣΕΣ ΠΟΛΙΤΙΚΕΣ ΑΠΑΣΧΟΛΗΣΗΣ ΤΟΥ ΥΠΟΥΡΓΕΙΟΥ ΑΠΑΣΧΟΛΗΣΗΣ ΚΑΙ ΤΟΥ ΟΑΕ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Ατομική συμβουλευτική και προώθηση στην απασχόληση απ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τα Κέντρα Προώθησης στην Απασχόληση (ΚΠΑ) του ΟΑΕ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Προγράμματα επιδότησης Νέων Θέσεων Εργασίας του ΟΑΕ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Προγράμματα επιδότησης Νέων Ελεύθερων Επαγγελματιών του ΟΑΕ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Πρόγραμμα απόκτησης εργασιακής εμπειρίας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ST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Προγράμματα κατάρτισης ανέργων σε ΚΕ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Προγράμματα κατάρτισης εργαζομένω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920" y="691920"/>
            <a:ext cx="7345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33399"/>
                </a:solidFill>
                <a:latin typeface="Tahoma"/>
              </a:rPr>
              <a:t>ΟΔΗΓΟΣ ΓΙΑ ΤΟ ΣΧΕΔΙΑΣΜΟ ΚΑΙ ΤΗΝ ΠΑΡΑΚΟΛΟΥΘΗΣΗ </a:t>
            </a:r>
            <a:br>
              <a:rPr sz="1800"/>
            </a:br>
            <a:r>
              <a:rPr b="1" lang="el-GR" sz="1800" spc="-1" strike="noStrike">
                <a:solidFill>
                  <a:srgbClr val="333399"/>
                </a:solidFill>
                <a:latin typeface="Tahoma"/>
              </a:rPr>
              <a:t>ΤΗΣ ΕΦΑΡΜΟΓΗΣ ΜΙΑΣ ΟΛΟΚΛΗΡΩΜΕΝΗΣ ΣΤΡΑΤΗΓΙΚΗΣ </a:t>
            </a:r>
            <a:br>
              <a:rPr sz="1800"/>
            </a:br>
            <a:r>
              <a:rPr b="1" lang="el-GR" sz="1800" spc="-1" strike="noStrike">
                <a:solidFill>
                  <a:srgbClr val="333399"/>
                </a:solidFill>
                <a:latin typeface="Tahoma"/>
              </a:rPr>
              <a:t>ΓΙΑ ΤΗΝ ΑΠΑΣΧΟΛΗΣΗ ΣΤΗΝ ΠΕΡΙΦΕΡΕΙΑ ΔΥΤΙΚΗΣ ΕΛΛΑΔΑΣ</a:t>
            </a:r>
            <a:endParaRPr b="1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920" y="2060640"/>
            <a:ext cx="79884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ΑΠΑΡΑΙΤΗΤΕΣ ΔΟΜΕ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Περιφερειακό Παρατηρητήριο Απασχόληση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Κυλιόμενες έρευνες αποτύπωσης της αγοράς εργασίας και των τάσεών τη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Έρευνες αποτύπωσης ζήτησης, προσφοράς, αναγκών κατάρτισης, κλαδικές μελέτες, έρευνες για την ενσωμάτωση ευπαθών κοινωνικών ομάδων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Ειδικές έρευνες/μελέτες (θύλακες ανεργίας, τοπικό επίπεδο κ.λ.π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2920" y="691920"/>
            <a:ext cx="7345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33399"/>
                </a:solidFill>
                <a:latin typeface="Tahoma"/>
              </a:rPr>
              <a:t>ΟΔΗΓΟΣ ΓΙΑ ΤΟ ΣΧΕΔΙΑΣΜΟ ΚΑΙ ΤΗΝ ΠΑΡΑΚΟΛΟΥΘΗΣΗ </a:t>
            </a:r>
            <a:br>
              <a:rPr sz="1800"/>
            </a:br>
            <a:r>
              <a:rPr b="1" lang="el-GR" sz="1800" spc="-1" strike="noStrike">
                <a:solidFill>
                  <a:srgbClr val="333399"/>
                </a:solidFill>
                <a:latin typeface="Tahoma"/>
              </a:rPr>
              <a:t>ΤΗΣ ΕΦΑΡΜΟΓΗΣ ΜΙΑΣ ΟΛΟΚΛΗΡΩΜΕΝΗΣ ΣΤΡΑΤΗΓΙΚΗΣ </a:t>
            </a:r>
            <a:br>
              <a:rPr sz="1800"/>
            </a:br>
            <a:r>
              <a:rPr b="1" lang="el-GR" sz="1800" spc="-1" strike="noStrike">
                <a:solidFill>
                  <a:srgbClr val="333399"/>
                </a:solidFill>
                <a:latin typeface="Tahoma"/>
              </a:rPr>
              <a:t>ΓΙΑ ΤΗΝ ΑΠΑΣΧΟΛΗΣΗ ΣΤΗΝ ΠΕΡΙΦΕΡΕΙΑ ΔΥΤΙΚΗΣ ΕΛΛΑΔΑΣ</a:t>
            </a:r>
            <a:endParaRPr b="1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26920" y="2205000"/>
            <a:ext cx="79884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Περιφερειακό Παρατηρητήριο Απασχόληση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Εντοπισμός και διάχυση καλών πρακτικώ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Εκδόσεις σε έντυπη και ηλεκτρονική μορφή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Διεξαγωγή σεμιναρίων και δράσεων κατάρτιση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15640" y="691920"/>
            <a:ext cx="7343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33399"/>
                </a:solidFill>
                <a:latin typeface="Tahoma"/>
              </a:rPr>
              <a:t>ΟΔΗΓΟΣ ΓΙΑ ΤΟ ΣΧΕΔΙΑΣΜΟ ΚΑΙ ΤΗΝ ΠΑΡΑΚΟΛΟΥΘΗΣΗ </a:t>
            </a:r>
            <a:br>
              <a:rPr sz="1800"/>
            </a:br>
            <a:r>
              <a:rPr b="1" lang="el-GR" sz="1800" spc="-1" strike="noStrike">
                <a:solidFill>
                  <a:srgbClr val="333399"/>
                </a:solidFill>
                <a:latin typeface="Tahoma"/>
              </a:rPr>
              <a:t>ΤΗΣ ΕΦΑΡΜΟΓΗΣ ΜΙΑΣ ΟΛΟΚΛΗΡΩΜΕΝΗΣ ΣΤΡΑΤΗΓΙΚΗΣ </a:t>
            </a:r>
            <a:br>
              <a:rPr sz="1800"/>
            </a:br>
            <a:r>
              <a:rPr b="1" lang="el-GR" sz="1800" spc="-1" strike="noStrike">
                <a:solidFill>
                  <a:srgbClr val="333399"/>
                </a:solidFill>
                <a:latin typeface="Tahoma"/>
              </a:rPr>
              <a:t>ΓΙΑ ΤΗΝ ΑΠΑΣΧΟΛΗΣΗ ΣΤΗΝ ΠΕΡΙΦΕΡΕΙΑ ΔΥΤΙΚΗΣ ΕΛΛΑΔΑΣ</a:t>
            </a:r>
            <a:endParaRPr b="1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9884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2133720"/>
            <a:ext cx="7988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ΑΠΑΡΑΙΤΗΤΕΣ ΔΟΜΕ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Σύσταση και λειτουργία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ΦΟΡΟΥΜ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κοινωνικών εταίρ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Σύσταση στην Γεν. Γραμμ. της Περιφέρειας μιας Επιτροπής παρακολούθησης της στρατηγικής για την απασχόλησ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Συμβούλιο Εμπειρογνωμόνων Απασχόληση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Γραφείο υποστήριξης τοπικών πρωτοβουλιών απασχόληση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Δημιουργία νέων ή/και ενεργοποίηση υφιστάμενων δικτύ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11:29:11Z</dcterms:created>
  <dc:creator>k</dc:creator>
  <dc:description/>
  <dc:language>en-US</dc:language>
  <cp:lastModifiedBy>k</cp:lastModifiedBy>
  <dcterms:modified xsi:type="dcterms:W3CDTF">2004-10-22T06:50:26Z</dcterms:modified>
  <cp:revision>108</cp:revision>
  <dc:subject/>
  <dc:title>Διαφάνεια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