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4DBF-A778-4578-8EA4-6D5A76233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AC61-7252-4730-A81D-EE0050980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7335-61BD-41DD-9B2F-ACF186EDE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2800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2944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2692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2800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2944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E8F7-3FFB-4EEF-9427-D92CE0617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A44F-0CB8-4235-9B6E-7674024C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D618D-3939-4885-B754-24F9773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DE5CB-B9FD-474B-AD34-9D05251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04C8-8B3B-444A-A88B-08D36F54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670D-AADB-408E-AD5D-024A743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20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C0A4-4EDD-459C-943D-2C14CD6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6CA7-AF10-477A-9CAD-8F735F4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80D3-0BA9-4453-80D5-E2A97310E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486F4-89C6-4E2F-BA09-278D08EA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EE36-A53E-4DFF-8276-59882B4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1E06-96CE-4A4E-98FA-92E14FA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A388-6185-48D4-8904-C598A9FD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2800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944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2692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2800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2944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A107-26CA-4939-B86D-BADD49BB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1D5C2-DDCA-4E4D-8650-BE35966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EDDE5-B99B-4205-9D8B-320E3C56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62BBA-99DD-4B3C-8E84-B31E713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F9413-0CDA-4935-BE5D-7EF5BA8A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16896-C286-416D-8CA8-8237DC5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F121-7542-4266-B8C5-4D99E1CECF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20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F2C0A-1E39-420F-9032-C45C4F0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811E4-4065-4BEF-A21C-EB7124A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DB118-A6B8-43F5-963B-03841E6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2CF29-A5DF-47E1-AC8B-4E29C87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34705-2269-412A-8DAF-5CF36B5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5068C-1572-4FC9-8F1E-4F45D23C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2800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29440" y="18442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2692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2800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29440" y="4101480"/>
            <a:ext cx="25722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35357-2329-4404-B2B2-85055578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F035-F4D3-415C-9DDD-544D43382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D2A4-0C89-483A-A3A4-94D2D9468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20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C40-3795-4877-AA37-EEA0522D2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B586-F1B0-4338-BF06-3E8E471CC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0120" y="41014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A0B5-3A6E-4215-8996-13012322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0120" y="1844280"/>
            <a:ext cx="3898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4101480"/>
            <a:ext cx="7988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6463-9120-4920-900E-CBD7E1B2C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516360" y="6453360"/>
            <a:ext cx="18716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459640" y="6453000"/>
            <a:ext cx="48744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82B8-54F1-42B3-875D-093EA2673086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500720" y="5229360"/>
            <a:ext cx="223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95280" y="333360"/>
            <a:ext cx="252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227640" y="476280"/>
            <a:ext cx="252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734760" cy="4856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7885080" y="228600"/>
            <a:ext cx="873000" cy="4827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4"/>
          <a:srcRect l="0" t="0" r="0" b="41667"/>
          <a:stretch/>
        </p:blipFill>
        <p:spPr>
          <a:xfrm>
            <a:off x="826920" y="6021360"/>
            <a:ext cx="13716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CB9E-5762-432F-AED5-CBAD491899B4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7FC-F04B-45F6-A084-B76FA82D2A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2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Tahoma"/>
              </a:rPr>
              <a:t>ΟΛΟΚΛΗΡΩΜΕΝΗ ΣΤΡΑΤΗΓΙΚΗ ΓΙΑ ΤΗΝ ΠΡΟΩΘΗΣΗ ΤΗΣ ΑΠΑΣΧΟΛΗΣΗΣ ΣΤΗΝ ΠΕΡΙΦΕΡΕΙΑ ΔΥΤΙΚΗΣ ΕΛΛΑΔΑΣ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988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Νομαρχιακή Επιχείρηση Ανάπτυξης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Ν.Ε.Α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Ν.Α. ΑΧΑΙ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Δημήτρης Καραβίδ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41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844640"/>
            <a:ext cx="7988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ΑΝΘΡΩΠΙΝΑ ΔΙΚΤΥΑ ΚΑΙ ΤΟ ΠΡΟΓΡΑΜΜΑ W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20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41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1844640"/>
            <a:ext cx="7988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7777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17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9884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Ανθρώπινα Δίκτυα μπορούν να δημιουργηθού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με τη </a:t>
            </a:r>
            <a:r>
              <a:rPr b="1" lang="el-GR" sz="2200" spc="-1" strike="noStrike">
                <a:solidFill>
                  <a:srgbClr val="000000"/>
                </a:solidFill>
                <a:latin typeface="Tahoma"/>
              </a:rPr>
              <a:t>συστηματοποίηση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άτυπων ή/ και τυπικών συνεργασιών μεταξύ ατόμων, ομάδων και φορέω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οι οποίες στοχεύουν στη </a:t>
            </a:r>
            <a:r>
              <a:rPr b="1" lang="el-GR" sz="2200" spc="-1" strike="noStrike">
                <a:solidFill>
                  <a:srgbClr val="000000"/>
                </a:solidFill>
                <a:latin typeface="Tahoma"/>
              </a:rPr>
              <a:t>συντονισμένη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και </a:t>
            </a:r>
            <a:r>
              <a:rPr b="1" lang="el-GR" sz="2200" spc="-1" strike="noStrike">
                <a:solidFill>
                  <a:srgbClr val="000000"/>
                </a:solidFill>
                <a:latin typeface="Tahoma"/>
              </a:rPr>
              <a:t>συμπληρωματική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δράση/ παρέμβασή τους, στο πεδίο της πρόληψης και αντιμετώπισης συγκεκριμένων προβλημάτω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Η υποστήριξη τους με ένα προηγμένο </a:t>
            </a:r>
            <a:r>
              <a:rPr b="1" lang="el-GR" sz="2200" spc="-1" strike="noStrike">
                <a:solidFill>
                  <a:srgbClr val="000000"/>
                </a:solidFill>
                <a:latin typeface="Tahoma"/>
              </a:rPr>
              <a:t>ηλεκτρονικό σύστημα επικοινωνίας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βελτιώνει τη λειτουργία τους και ενισχύει τη δραστηριότητά του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988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όχοι της συγκρότησης και λειτουργίας «ανθρώπινων δικτύων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η γνωριμία και αλληλοκατανόηση των μελών του δικτύου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η διάδοση της γνώσης και η δημιουργία νέας γνώσης  κα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η ανάπτυξη συνθηκών δημιουργίας καινοτομιών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988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Επιδιώξεις ενός του Δικτύου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αξιοποίηση των κοινωνικών δυνάμεων και των οικονομικών πόρων σε τοπικό, εθνικό αλλά και ευρωπαϊκό επίπεδο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ανάπτυξη και η προώθηση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αποτελεσματικών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και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βιώσιμων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υνεργασιών μεταξύ  ομάδων και φορέων - τυπικής και άτυπης μορφή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ενεργοποίηση των ανέργων και η διασφάλιση της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 συμμετοχής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ους στη διαδικασία επίλυσης των προβλημάτων τους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ενίσχυση της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 διαπραγματευτικής ικανότητας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όλων των μελών του δικτύο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988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Επιδιώξεις ενός του Δικτύου είνα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άμβλυνση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ων συνθηκών περιθωριοποίησης των ανέργων μέσω της ευαισθητοποίησης των συντελεστών των τοπικών κοινωνι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88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Ιδιαίτερη σημασία στην δημιουργία και ανάπτυξη ενός δικτύου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έχουν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έγγιση από κάτω προς τα πάνω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υμμετοχικότητ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υνεχής ανατροφοδότηση και επαναδιαμόρφωση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ναλλακτικές προσεγγίσει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νίσχυση τοπικότητας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34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988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ΤΑΔΙΑ ΔΗΜΙΟΥΡΓΙΑΣ ΕΝΟΣ ΔΙΚΤΥΟΥ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διορισμός των στόχων και του πλαισίου λειτουργίας του δικτύου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Διαδικασίες προσέγγισης των φορέ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Διερεύνηση των ιδιαίτερων χαρακτηριστικών, των ενδιαφερόντων, των αναγκών, των γνώσεων και των δεξιοτήτων/ ικανοτήτων της ομάδας στόχου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89000"/>
            <a:ext cx="79884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ΤΑΔΙΑ ΔΗΜΙΟΥΡΓΙΑΣ ΕΝΟΣ ΔΙΚΤΥΟΥ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έγγιση επιχειρήσεων και φορέων με στόχο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40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η διάγνωση των αναγκών τους σε νέες θέσεις εργασίας, νέες ειδικότητες, προγράμματα κατάρτισης κ.ά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40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η διερεύνηση των δυνατοτήτων συνεργασίας αυτών με το Δίκτυο.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χεδιασμός των υπηρεσιών στήριξης των ανέργων μέσω ειδικών project, όπου συνδυάζονται οι ανάγκες/ δυνατότητες με τις δυνατότητες συμπληρωματικής - ολοκληρωμένης στήριξης από τους εμπλεκόμενους φορεί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Tahoma"/>
              </a:rPr>
              <a:t>Λειτουργία ανθρώπινων δικτύων - Σκοπός και Αναμενόμενα Αποτελέσματα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19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8436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ΣΤΑΔΙΑ ΔΗΜΙΟΥΡΓΙΑΣ ΕΝΟΣ ΔΙΚΤΥΟΥ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Δικτύωση των ομάδων  σε διαπεριφερειακό επίπεδο. Προσδιορισμός των μηχανισμών επικοινωνίας, συνεργασίας, αλληλοπληροφόρησης και δραστηριοποίησης των ομάδω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διορισμός εναλλακτικών σεναρίων δράσης σύμφωνα με τα δεδομένα των διαδικασιών ανατροφοδότηση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1:29:11Z</dcterms:created>
  <dc:creator>k</dc:creator>
  <dc:description/>
  <dc:language>en-US</dc:language>
  <cp:lastModifiedBy>karavidas</cp:lastModifiedBy>
  <dcterms:modified xsi:type="dcterms:W3CDTF">2004-10-22T10:34:04Z</dcterms:modified>
  <cp:revision>114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